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7" name="Text Box 14"/>
          <p:cNvSpPr/>
          <p:nvPr/>
        </p:nvSpPr>
        <p:spPr>
          <a:xfrm>
            <a:off x="66171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C76B-695F-45AE-8932-E3CCDFA02F0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8BE6-F10F-421D-ABCA-A72C8F2FAB90}"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49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69A5-637D-4BAF-A198-58DDFD22131D}"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192E-B606-47C3-90DF-D9110783B77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bondsonline.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s in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holder Agreements/Joint Ventures</a:t>
            </a:r>
            <a:endParaRPr b="1"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Contracts</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risk mitigation from contracts is dependent in part on the legal parameters of the contracts and the creditworthiness of the parties involved.  An assessment of the effectiveness of such contracts thus requires an analysis of the contract, the legal system under which it will be enforced, and the creditworthiness of the counter party entering into i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 Case</a:t>
            </a:r>
            <a:endParaRPr b="1" lang="en-US" sz="2000" spc="-1" strike="noStrike">
              <a:solidFill>
                <a:srgbClr val="000000"/>
              </a:solidFill>
              <a:latin typeface="Arial"/>
            </a:endParaRPr>
          </a:p>
        </p:txBody>
      </p:sp>
      <p:sp>
        <p:nvSpPr>
          <p:cNvPr id="3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Tariff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Support</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 Commit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 specific additional amount as equity into the project company to meet specified cash flow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dditional equity up to a certain limit to cover any cost overruns during construction (or operating cost overrun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undertake to inject extra funding if necessary if ensure that the construction of the project by a certain date, thus taking on the risk that more funding for construction or initial debt payments may be required.</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 Continued</a:t>
            </a:r>
            <a:endParaRPr b="1" lang="en-US" sz="2000" spc="-1" strike="noStrike">
              <a:solidFill>
                <a:srgbClr val="000000"/>
              </a:solidFill>
              <a:latin typeface="Arial"/>
            </a:endParaRPr>
          </a:p>
        </p:txBody>
      </p:sp>
      <p:sp>
        <p:nvSpPr>
          <p:cNvPr id="3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mpletion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provide a guarantee not only that the project will be physically completed, but that it will achieve a minimum level of operating revenues or cash flow.</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Supply Undertak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secure supplies of fuel or raw material required for the project, at a fixed or minimum pr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Subordinat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ponsor is a supplier of fuel or raw materials to the project, payments for these supplies are deferred in favor of paying debt service if the project falls short of cash.</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provide additional funding for debt service if the cash flow is reduced by the project not operating to a minimum performance standard.</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guarantee to pay any deficit if the product sells a product at a price below an agreed upon leve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w back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make up any deficiency in debt service or cash flow to the extent they have received dividends from the project compan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imilar to corporate guarantee if the agreement is indefinit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fall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agrees to pay shortfall at the maturity of the deb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rance</a:t>
            </a:r>
            <a:endParaRPr b="1" lang="en-US" sz="2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a:t>
            </a:r>
            <a:endParaRPr b="1" lang="en-US" sz="2000" spc="-1" strike="noStrike">
              <a:solidFill>
                <a:srgbClr val="000000"/>
              </a:solidFill>
              <a:latin typeface="Arial"/>
            </a:endParaRPr>
          </a:p>
        </p:txBody>
      </p:sp>
      <p:sp>
        <p:nvSpPr>
          <p:cNvPr id="3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requirements in project finance are demanding and as result insurance costs are hig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costs often under-estim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 of insurance bro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insur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hase (including start-up and tes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renewal of insurances during the operating phas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Reference Slides</a:t>
            </a:r>
            <a:endParaRPr b="1" lang="en-US" sz="2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ocuments </a:t>
            </a:r>
            <a:r>
              <a:rPr b="1" lang="en-US" sz="1600" spc="-1" strike="noStrike">
                <a:solidFill>
                  <a:srgbClr val="000000"/>
                </a:solidFill>
                <a:latin typeface="Arial"/>
              </a:rPr>
              <a:t>(Cont.)</a:t>
            </a:r>
            <a:endParaRPr b="1" lang="en-US" sz="1600" spc="-1" strike="noStrike">
              <a:solidFill>
                <a:srgbClr val="000000"/>
              </a:solidFill>
              <a:latin typeface="Arial"/>
            </a:endParaRPr>
          </a:p>
        </p:txBody>
      </p:sp>
      <p:pic>
        <p:nvPicPr>
          <p:cNvPr id="390" name="Picture 3" descr=""/>
          <p:cNvPicPr/>
          <p:nvPr/>
        </p:nvPicPr>
        <p:blipFill>
          <a:blip r:embed="rId1"/>
          <a:stretch/>
        </p:blipFill>
        <p:spPr>
          <a:xfrm>
            <a:off x="990720" y="2057400"/>
            <a:ext cx="8153280" cy="4432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Kutubu Project in Papua New Guinea</a:t>
            </a:r>
            <a:endParaRPr b="1" lang="en-US" sz="2000" spc="-1" strike="noStrike">
              <a:solidFill>
                <a:srgbClr val="000000"/>
              </a:solidFill>
              <a:latin typeface="Arial"/>
            </a:endParaRPr>
          </a:p>
        </p:txBody>
      </p:sp>
      <p:sp>
        <p:nvSpPr>
          <p:cNvPr id="1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Example:</a:t>
            </a:r>
            <a:r>
              <a:rPr b="0" lang="en-US" sz="1800" spc="-1" strike="noStrike">
                <a:solidFill>
                  <a:srgbClr val="000000"/>
                </a:solidFill>
                <a:latin typeface="Arial"/>
              </a:rPr>
              <a:t> In the $324 million Kutubu unincorporated joint venture (“UJV”) for an oilfield development and pipelin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n-government participants Project Financed the Papua New Guinea Governments 22½% interest -- to be repaid from the government's share of oil production from the project itself.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wo, smaller, minority joint venturers (and not the project’s operator, Chevron) Project Financed their 24.2% combined UJV percentage interes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er companies, big oil, and the government each gain discipline and certainty by way of the Project-Finance process.</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ocuments </a:t>
            </a:r>
            <a:r>
              <a:rPr b="1" lang="en-US" sz="1400" spc="-1" strike="noStrike">
                <a:solidFill>
                  <a:srgbClr val="000000"/>
                </a:solidFill>
                <a:latin typeface="Arial"/>
              </a:rPr>
              <a:t>(Cont.)</a:t>
            </a:r>
            <a:endParaRPr b="1" lang="en-US" sz="1400" spc="-1" strike="noStrike">
              <a:solidFill>
                <a:srgbClr val="000000"/>
              </a:solidFill>
              <a:latin typeface="Arial"/>
            </a:endParaRPr>
          </a:p>
        </p:txBody>
      </p:sp>
      <p:pic>
        <p:nvPicPr>
          <p:cNvPr id="392" name="Picture 3" descr=""/>
          <p:cNvPicPr/>
          <p:nvPr/>
        </p:nvPicPr>
        <p:blipFill>
          <a:blip r:embed="rId1"/>
          <a:stretch/>
        </p:blipFill>
        <p:spPr>
          <a:xfrm>
            <a:off x="380880" y="1967040"/>
            <a:ext cx="8534520" cy="473868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Recourse and On Balance Sheet Project Finance</a:t>
            </a:r>
            <a:endParaRPr b="1" lang="en-US" sz="1800" spc="-1" strike="noStrike">
              <a:solidFill>
                <a:srgbClr val="000000"/>
              </a:solidFill>
              <a:latin typeface="Arial"/>
            </a:endParaRPr>
          </a:p>
        </p:txBody>
      </p:sp>
      <p:pic>
        <p:nvPicPr>
          <p:cNvPr id="394" name="Picture 3" descr=""/>
          <p:cNvPicPr/>
          <p:nvPr/>
        </p:nvPicPr>
        <p:blipFill>
          <a:blip r:embed="rId1"/>
          <a:stretch/>
        </p:blipFill>
        <p:spPr>
          <a:xfrm>
            <a:off x="1254240" y="2373480"/>
            <a:ext cx="7057800" cy="28080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Lease Financing</a:t>
            </a:r>
            <a:endParaRPr b="1" lang="en-US" sz="1800" spc="-1" strike="noStrike">
              <a:solidFill>
                <a:srgbClr val="000000"/>
              </a:solidFill>
              <a:latin typeface="Arial"/>
            </a:endParaRPr>
          </a:p>
        </p:txBody>
      </p:sp>
      <p:pic>
        <p:nvPicPr>
          <p:cNvPr id="396" name="Picture 3" descr=""/>
          <p:cNvPicPr/>
          <p:nvPr/>
        </p:nvPicPr>
        <p:blipFill>
          <a:blip r:embed="rId1"/>
          <a:stretch/>
        </p:blipFill>
        <p:spPr>
          <a:xfrm>
            <a:off x="533520" y="2133720"/>
            <a:ext cx="8381880" cy="373356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Joint Ventures </a:t>
            </a:r>
            <a:br>
              <a:rPr sz="1800"/>
            </a:br>
            <a:r>
              <a:rPr b="1" lang="en-US" sz="1800" spc="-1" strike="noStrike">
                <a:solidFill>
                  <a:srgbClr val="000000"/>
                </a:solidFill>
                <a:latin typeface="Arial"/>
              </a:rPr>
              <a:t>and Equity Financing</a:t>
            </a:r>
            <a:endParaRPr b="1" lang="en-US" sz="1800" spc="-1" strike="noStrike">
              <a:solidFill>
                <a:srgbClr val="000000"/>
              </a:solidFill>
              <a:latin typeface="Arial"/>
            </a:endParaRPr>
          </a:p>
        </p:txBody>
      </p:sp>
      <p:pic>
        <p:nvPicPr>
          <p:cNvPr id="398" name="Picture 3" descr=""/>
          <p:cNvPicPr/>
          <p:nvPr/>
        </p:nvPicPr>
        <p:blipFill>
          <a:blip r:embed="rId1"/>
          <a:stretch/>
        </p:blipFill>
        <p:spPr>
          <a:xfrm>
            <a:off x="838080" y="2057400"/>
            <a:ext cx="7925040" cy="41911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inancing Issues</a:t>
            </a:r>
            <a:endParaRPr b="1" lang="en-US" sz="2000" spc="-1" strike="noStrike">
              <a:solidFill>
                <a:srgbClr val="000000"/>
              </a:solidFill>
              <a:latin typeface="Arial"/>
            </a:endParaRPr>
          </a:p>
        </p:txBody>
      </p:sp>
      <p:pic>
        <p:nvPicPr>
          <p:cNvPr id="400" name="Picture 3" descr=""/>
          <p:cNvPicPr/>
          <p:nvPr/>
        </p:nvPicPr>
        <p:blipFill>
          <a:blip r:embed="rId1"/>
          <a:stretch/>
        </p:blipFill>
        <p:spPr>
          <a:xfrm>
            <a:off x="762120" y="2666880"/>
            <a:ext cx="8153280" cy="200844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examples of PPA agreements and EPC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sec.gov.us</a:t>
            </a:r>
            <a:r>
              <a:rPr b="0" lang="en-US" sz="1800" spc="-1" strike="noStrike">
                <a:solidFill>
                  <a:srgbClr val="000000"/>
                </a:solidFill>
                <a:latin typeface="Arial"/>
              </a:rPr>
              <a:t> – project finance documents for projects with bond financ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on Termination</a:t>
            </a:r>
            <a:endParaRPr b="1" lang="en-US" sz="2000" spc="-1" strike="noStrike">
              <a:solidFill>
                <a:srgbClr val="000000"/>
              </a:solidFill>
              <a:latin typeface="Arial"/>
            </a:endParaRPr>
          </a:p>
        </p:txBody>
      </p:sp>
      <p:sp>
        <p:nvSpPr>
          <p:cNvPr id="1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ompens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will generally equal the total amount due to the lenders plus the net present value of the forecast return on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calculated by reference to the financial mod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s of Inter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a shareholder agreement to withdraw from certain decision making roles within the project where a conflict of interest may affect his judgment or his ability to carry out a task in the best interests of the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Sha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void transfer of shares without prior consent</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527840" y="2568600"/>
            <a:ext cx="28256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Kutubu Joint Venture</a:t>
            </a:r>
            <a:endParaRPr b="0" lang="en-US" sz="2400" spc="-1" strike="noStrike">
              <a:solidFill>
                <a:srgbClr val="000000"/>
              </a:solidFill>
              <a:latin typeface="Arial"/>
            </a:endParaRPr>
          </a:p>
        </p:txBody>
      </p:sp>
      <p:sp>
        <p:nvSpPr>
          <p:cNvPr id="121" name="Rectangle 3"/>
          <p:cNvSpPr/>
          <p:nvPr/>
        </p:nvSpPr>
        <p:spPr>
          <a:xfrm>
            <a:off x="541080" y="1447920"/>
            <a:ext cx="78948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PNG</a:t>
            </a:r>
            <a:endParaRPr b="0" lang="en-US" sz="2400" spc="-1" strike="noStrike">
              <a:solidFill>
                <a:srgbClr val="000000"/>
              </a:solidFill>
              <a:latin typeface="Arial"/>
            </a:endParaRPr>
          </a:p>
        </p:txBody>
      </p:sp>
      <p:sp>
        <p:nvSpPr>
          <p:cNvPr id="122" name="Rectangle 4"/>
          <p:cNvSpPr/>
          <p:nvPr/>
        </p:nvSpPr>
        <p:spPr>
          <a:xfrm>
            <a:off x="1605960" y="1447920"/>
            <a:ext cx="12315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Chevron</a:t>
            </a:r>
            <a:endParaRPr b="0" lang="en-US" sz="2400" spc="-1" strike="noStrike">
              <a:solidFill>
                <a:srgbClr val="000000"/>
              </a:solidFill>
              <a:latin typeface="Arial"/>
            </a:endParaRPr>
          </a:p>
        </p:txBody>
      </p:sp>
      <p:sp>
        <p:nvSpPr>
          <p:cNvPr id="123" name="Rectangle 5"/>
          <p:cNvSpPr/>
          <p:nvPr/>
        </p:nvSpPr>
        <p:spPr>
          <a:xfrm>
            <a:off x="3130920" y="14479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P</a:t>
            </a:r>
            <a:endParaRPr b="0" lang="en-US" sz="2400" spc="-1" strike="noStrike">
              <a:solidFill>
                <a:srgbClr val="000000"/>
              </a:solidFill>
              <a:latin typeface="Arial"/>
            </a:endParaRPr>
          </a:p>
        </p:txBody>
      </p:sp>
      <p:sp>
        <p:nvSpPr>
          <p:cNvPr id="124" name="Rectangle 6"/>
          <p:cNvSpPr/>
          <p:nvPr/>
        </p:nvSpPr>
        <p:spPr>
          <a:xfrm>
            <a:off x="3969720" y="1447920"/>
            <a:ext cx="7729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HP</a:t>
            </a:r>
            <a:endParaRPr b="0" lang="en-US" sz="2400" spc="-1" strike="noStrike">
              <a:solidFill>
                <a:srgbClr val="000000"/>
              </a:solidFill>
              <a:latin typeface="Arial"/>
            </a:endParaRPr>
          </a:p>
        </p:txBody>
      </p:sp>
      <p:sp>
        <p:nvSpPr>
          <p:cNvPr id="125" name="Rectangle 7"/>
          <p:cNvSpPr/>
          <p:nvPr/>
        </p:nvSpPr>
        <p:spPr>
          <a:xfrm>
            <a:off x="5338080" y="2514600"/>
            <a:ext cx="14889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Mitsubishi</a:t>
            </a:r>
            <a:endParaRPr b="0" lang="en-US" sz="2400" spc="-1" strike="noStrike">
              <a:solidFill>
                <a:srgbClr val="000000"/>
              </a:solidFill>
              <a:latin typeface="Arial"/>
            </a:endParaRPr>
          </a:p>
        </p:txBody>
      </p:sp>
      <p:sp>
        <p:nvSpPr>
          <p:cNvPr id="126" name="Arc 8"/>
          <p:cNvSpPr/>
          <p:nvPr/>
        </p:nvSpPr>
        <p:spPr>
          <a:xfrm>
            <a:off x="714240" y="1925640"/>
            <a:ext cx="755640" cy="603360"/>
          </a:xfrm>
          <a:custGeom>
            <a:avLst/>
            <a:gdLst>
              <a:gd name="textAreaLeft" fmla="*/ 0 w 755640"/>
              <a:gd name="textAreaRight" fmla="*/ 756000 w 75564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9"/>
          <p:cNvSpPr/>
          <p:nvPr/>
        </p:nvSpPr>
        <p:spPr>
          <a:xfrm>
            <a:off x="61200" y="266688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0&gt;22.5%</a:t>
            </a:r>
            <a:endParaRPr b="0" lang="en-US" sz="1600" spc="-1" strike="noStrike">
              <a:solidFill>
                <a:srgbClr val="000000"/>
              </a:solidFill>
              <a:latin typeface="Arial"/>
            </a:endParaRPr>
          </a:p>
        </p:txBody>
      </p:sp>
      <p:sp>
        <p:nvSpPr>
          <p:cNvPr id="128" name="Arc 10"/>
          <p:cNvSpPr/>
          <p:nvPr/>
        </p:nvSpPr>
        <p:spPr>
          <a:xfrm>
            <a:off x="1628640" y="1925640"/>
            <a:ext cx="146160" cy="603360"/>
          </a:xfrm>
          <a:custGeom>
            <a:avLst/>
            <a:gdLst>
              <a:gd name="textAreaLeft" fmla="*/ 0 w 146160"/>
              <a:gd name="textAreaRight" fmla="*/ 146520 w 14616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11"/>
          <p:cNvSpPr/>
          <p:nvPr/>
        </p:nvSpPr>
        <p:spPr>
          <a:xfrm>
            <a:off x="168192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0" name="Arc 12"/>
          <p:cNvSpPr/>
          <p:nvPr/>
        </p:nvSpPr>
        <p:spPr>
          <a:xfrm>
            <a:off x="2847960" y="1933560"/>
            <a:ext cx="527040" cy="603360"/>
          </a:xfrm>
          <a:custGeom>
            <a:avLst/>
            <a:gdLst>
              <a:gd name="textAreaLeft" fmla="*/ 0 w 527040"/>
              <a:gd name="textAreaRight" fmla="*/ 527400 w 527040"/>
              <a:gd name="textAreaTop" fmla="*/ 0 h 603360"/>
              <a:gd name="textAreaBottom" fmla="*/ 603360 h 603360"/>
            </a:gdLst>
            <a:ahLst/>
            <a:rect l="textAreaLeft" t="textAreaTop" r="textAreaRight" b="textAreaBottom"/>
            <a:pathLst>
              <a:path fill="none" w="21600" h="21600">
                <a:moveTo>
                  <a:pt x="0" y="21600"/>
                </a:moveTo>
                <a:cubicBezTo>
                  <a:pt x="0" y="9696"/>
                  <a:pt x="9631" y="35"/>
                  <a:pt x="21535" y="0"/>
                </a:cubicBezTo>
              </a:path>
              <a:path stroke="0" w="21600" h="21600">
                <a:moveTo>
                  <a:pt x="0" y="21600"/>
                </a:moveTo>
                <a:cubicBezTo>
                  <a:pt x="0" y="9696"/>
                  <a:pt x="9631" y="35"/>
                  <a:pt x="21535"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13"/>
          <p:cNvSpPr/>
          <p:nvPr/>
        </p:nvSpPr>
        <p:spPr>
          <a:xfrm>
            <a:off x="290124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2" name="Arc 14"/>
          <p:cNvSpPr/>
          <p:nvPr/>
        </p:nvSpPr>
        <p:spPr>
          <a:xfrm>
            <a:off x="3914640" y="1933560"/>
            <a:ext cx="679680" cy="603360"/>
          </a:xfrm>
          <a:custGeom>
            <a:avLst/>
            <a:gdLst>
              <a:gd name="textAreaLeft" fmla="*/ 0 w 679680"/>
              <a:gd name="textAreaRight" fmla="*/ 680040 w 679680"/>
              <a:gd name="textAreaTop" fmla="*/ 0 h 603360"/>
              <a:gd name="textAreaBottom" fmla="*/ 603360 h 60336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15"/>
          <p:cNvSpPr/>
          <p:nvPr/>
        </p:nvSpPr>
        <p:spPr>
          <a:xfrm>
            <a:off x="3968280" y="2077920"/>
            <a:ext cx="10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2.5&gt;9.7%</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34" name="Arc 16"/>
          <p:cNvSpPr/>
          <p:nvPr/>
        </p:nvSpPr>
        <p:spPr>
          <a:xfrm>
            <a:off x="4371840" y="2619360"/>
            <a:ext cx="908280" cy="69840"/>
          </a:xfrm>
          <a:custGeom>
            <a:avLst/>
            <a:gdLst>
              <a:gd name="textAreaLeft" fmla="*/ 0 w 908280"/>
              <a:gd name="textAreaRight" fmla="*/ 908640 w 908280"/>
              <a:gd name="textAreaTop" fmla="*/ 0 h 69840"/>
              <a:gd name="textAreaBottom" fmla="*/ 69840 h 69840"/>
            </a:gdLst>
            <a:ahLst/>
            <a:rect l="textAreaLeft" t="textAreaTop" r="textAreaRight" b="textAreaBottom"/>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7"/>
          <p:cNvSpPr/>
          <p:nvPr/>
        </p:nvSpPr>
        <p:spPr>
          <a:xfrm>
            <a:off x="4425480" y="2687760"/>
            <a:ext cx="97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6.3&gt;4.8%</a:t>
            </a:r>
            <a:endParaRPr b="0" lang="en-US" sz="1600" spc="-1" strike="noStrike">
              <a:solidFill>
                <a:srgbClr val="000000"/>
              </a:solidFill>
              <a:latin typeface="Arial"/>
            </a:endParaRPr>
          </a:p>
        </p:txBody>
      </p:sp>
      <p:sp>
        <p:nvSpPr>
          <p:cNvPr id="136" name="Rectangle 18"/>
          <p:cNvSpPr/>
          <p:nvPr/>
        </p:nvSpPr>
        <p:spPr>
          <a:xfrm>
            <a:off x="460800" y="3635280"/>
            <a:ext cx="15638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Oil Search</a:t>
            </a:r>
            <a:endParaRPr b="0" lang="en-US" sz="2400" spc="-1" strike="noStrike">
              <a:solidFill>
                <a:srgbClr val="000000"/>
              </a:solidFill>
              <a:latin typeface="Arial"/>
            </a:endParaRPr>
          </a:p>
        </p:txBody>
      </p:sp>
      <p:sp>
        <p:nvSpPr>
          <p:cNvPr id="137" name="Rectangle 19"/>
          <p:cNvSpPr/>
          <p:nvPr/>
        </p:nvSpPr>
        <p:spPr>
          <a:xfrm>
            <a:off x="5111280" y="3635280"/>
            <a:ext cx="135036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Ampolex</a:t>
            </a:r>
            <a:endParaRPr b="0" lang="en-US" sz="2400" spc="-1" strike="noStrike">
              <a:solidFill>
                <a:srgbClr val="000000"/>
              </a:solidFill>
              <a:latin typeface="Arial"/>
            </a:endParaRPr>
          </a:p>
        </p:txBody>
      </p:sp>
      <p:sp>
        <p:nvSpPr>
          <p:cNvPr id="138" name="Arc 20"/>
          <p:cNvSpPr/>
          <p:nvPr/>
        </p:nvSpPr>
        <p:spPr>
          <a:xfrm>
            <a:off x="3686040" y="3068640"/>
            <a:ext cx="1365480" cy="527040"/>
          </a:xfrm>
          <a:custGeom>
            <a:avLst/>
            <a:gdLst>
              <a:gd name="textAreaLeft" fmla="*/ 0 w 1365480"/>
              <a:gd name="textAreaRight" fmla="*/ 1365480 w 1365480"/>
              <a:gd name="textAreaTop" fmla="*/ 0 h 527040"/>
              <a:gd name="textAreaBottom" fmla="*/ 527400 h 527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21"/>
          <p:cNvSpPr/>
          <p:nvPr/>
        </p:nvSpPr>
        <p:spPr>
          <a:xfrm>
            <a:off x="1453320" y="314496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0&gt;7.7%</a:t>
            </a:r>
            <a:endParaRPr b="0" lang="en-US" sz="1600" spc="-1" strike="noStrike">
              <a:solidFill>
                <a:srgbClr val="000000"/>
              </a:solidFill>
              <a:latin typeface="Arial"/>
            </a:endParaRPr>
          </a:p>
        </p:txBody>
      </p:sp>
      <p:sp>
        <p:nvSpPr>
          <p:cNvPr id="140" name="Rectangle 22"/>
          <p:cNvSpPr/>
          <p:nvPr/>
        </p:nvSpPr>
        <p:spPr>
          <a:xfrm>
            <a:off x="4044240" y="3144960"/>
            <a:ext cx="117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1.1&gt;16.5%</a:t>
            </a:r>
            <a:endParaRPr b="0" lang="en-US" sz="1600" spc="-1" strike="noStrike">
              <a:solidFill>
                <a:srgbClr val="000000"/>
              </a:solidFill>
              <a:latin typeface="Arial"/>
            </a:endParaRPr>
          </a:p>
        </p:txBody>
      </p:sp>
      <p:sp>
        <p:nvSpPr>
          <p:cNvPr id="141" name="Rectangle 23"/>
          <p:cNvSpPr/>
          <p:nvPr/>
        </p:nvSpPr>
        <p:spPr>
          <a:xfrm>
            <a:off x="3129120" y="5151600"/>
            <a:ext cx="81864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Banks</a:t>
            </a:r>
            <a:endParaRPr b="0" lang="en-US" sz="2000" spc="-1" strike="noStrike">
              <a:solidFill>
                <a:srgbClr val="000000"/>
              </a:solidFill>
              <a:latin typeface="Arial"/>
            </a:endParaRPr>
          </a:p>
        </p:txBody>
      </p:sp>
      <p:sp>
        <p:nvSpPr>
          <p:cNvPr id="142" name="Oval 24"/>
          <p:cNvSpPr/>
          <p:nvPr/>
        </p:nvSpPr>
        <p:spPr>
          <a:xfrm>
            <a:off x="2770200" y="4370400"/>
            <a:ext cx="20448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25"/>
          <p:cNvSpPr/>
          <p:nvPr/>
        </p:nvSpPr>
        <p:spPr>
          <a:xfrm>
            <a:off x="2820960" y="4395960"/>
            <a:ext cx="198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oject Financing</a:t>
            </a:r>
            <a:endParaRPr b="0" lang="en-US" sz="2000" spc="-1" strike="noStrike">
              <a:solidFill>
                <a:srgbClr val="000000"/>
              </a:solidFill>
              <a:latin typeface="Arial"/>
            </a:endParaRPr>
          </a:p>
        </p:txBody>
      </p:sp>
      <p:sp>
        <p:nvSpPr>
          <p:cNvPr id="144" name="Line 26"/>
          <p:cNvSpPr/>
          <p:nvPr/>
        </p:nvSpPr>
        <p:spPr>
          <a:xfrm flipV="1">
            <a:off x="3525840" y="48150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Oval 27"/>
          <p:cNvSpPr/>
          <p:nvPr/>
        </p:nvSpPr>
        <p:spPr>
          <a:xfrm>
            <a:off x="2541600" y="3608280"/>
            <a:ext cx="15112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Arc 28"/>
          <p:cNvSpPr/>
          <p:nvPr/>
        </p:nvSpPr>
        <p:spPr>
          <a:xfrm>
            <a:off x="630360" y="3068640"/>
            <a:ext cx="831600" cy="527040"/>
          </a:xfrm>
          <a:custGeom>
            <a:avLst/>
            <a:gdLst>
              <a:gd name="textAreaLeft" fmla="*/ 0 w 831600"/>
              <a:gd name="textAreaRight" fmla="*/ 831960 w 831600"/>
              <a:gd name="textAreaTop" fmla="*/ 0 h 527040"/>
              <a:gd name="textAreaBottom" fmla="*/ 527400 h 527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29"/>
          <p:cNvSpPr/>
          <p:nvPr/>
        </p:nvSpPr>
        <p:spPr>
          <a:xfrm>
            <a:off x="2084400" y="4141800"/>
            <a:ext cx="82548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0"/>
          <p:cNvSpPr/>
          <p:nvPr/>
        </p:nvSpPr>
        <p:spPr>
          <a:xfrm flipV="1">
            <a:off x="4675320" y="4129200"/>
            <a:ext cx="36828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1"/>
          <p:cNvSpPr/>
          <p:nvPr/>
        </p:nvSpPr>
        <p:spPr>
          <a:xfrm>
            <a:off x="2084400" y="3836880"/>
            <a:ext cx="44460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2"/>
          <p:cNvSpPr/>
          <p:nvPr/>
        </p:nvSpPr>
        <p:spPr>
          <a:xfrm flipH="1">
            <a:off x="4052520" y="3836880"/>
            <a:ext cx="100332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Arc 33"/>
          <p:cNvSpPr/>
          <p:nvPr/>
        </p:nvSpPr>
        <p:spPr>
          <a:xfrm>
            <a:off x="2619360" y="4059360"/>
            <a:ext cx="527040" cy="1288800"/>
          </a:xfrm>
          <a:custGeom>
            <a:avLst/>
            <a:gdLst>
              <a:gd name="textAreaLeft" fmla="*/ 0 w 527040"/>
              <a:gd name="textAreaRight" fmla="*/ 527400 w 527040"/>
              <a:gd name="textAreaTop" fmla="*/ 0 h 1288800"/>
              <a:gd name="textAreaBottom" fmla="*/ 1289160 h 1288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899000" sp="20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34"/>
          <p:cNvSpPr/>
          <p:nvPr/>
        </p:nvSpPr>
        <p:spPr>
          <a:xfrm>
            <a:off x="385200" y="4624560"/>
            <a:ext cx="130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scrow a/c</a:t>
            </a:r>
            <a:endParaRPr b="0" lang="en-US" sz="2000" spc="-1" strike="noStrike">
              <a:solidFill>
                <a:srgbClr val="000000"/>
              </a:solidFill>
              <a:latin typeface="Arial"/>
            </a:endParaRPr>
          </a:p>
        </p:txBody>
      </p:sp>
      <p:sp>
        <p:nvSpPr>
          <p:cNvPr id="153" name="Oval 35"/>
          <p:cNvSpPr/>
          <p:nvPr/>
        </p:nvSpPr>
        <p:spPr>
          <a:xfrm>
            <a:off x="407880" y="4599000"/>
            <a:ext cx="12826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Arc 36"/>
          <p:cNvSpPr/>
          <p:nvPr/>
        </p:nvSpPr>
        <p:spPr>
          <a:xfrm>
            <a:off x="409680" y="4143240"/>
            <a:ext cx="222120" cy="603360"/>
          </a:xfrm>
          <a:custGeom>
            <a:avLst/>
            <a:gdLst>
              <a:gd name="textAreaLeft" fmla="*/ 0 w 222120"/>
              <a:gd name="textAreaRight" fmla="*/ 222480 w 222120"/>
              <a:gd name="textAreaTop" fmla="*/ 0 h 603360"/>
              <a:gd name="textAreaBottom" fmla="*/ 603720 h 603360"/>
            </a:gdLst>
            <a:ahLst/>
            <a:rect l="textAreaLeft" t="textAreaTop" r="textAreaRight" b="textAreaBottom"/>
            <a:pathLst>
              <a:path fill="none" w="21600" h="21599">
                <a:moveTo>
                  <a:pt x="0" y="21599"/>
                </a:moveTo>
                <a:cubicBezTo>
                  <a:pt x="0" y="9729"/>
                  <a:pt x="9577" y="84"/>
                  <a:pt x="21445" y="-1"/>
                </a:cubicBezTo>
              </a:path>
              <a:path stroke="0" w="21600" h="21599">
                <a:moveTo>
                  <a:pt x="0" y="21599"/>
                </a:moveTo>
                <a:cubicBezTo>
                  <a:pt x="0" y="9729"/>
                  <a:pt x="9577" y="84"/>
                  <a:pt x="21445" y="-1"/>
                </a:cubicBezTo>
                <a:lnTo>
                  <a:pt x="21600" y="21599"/>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rc 37"/>
          <p:cNvSpPr/>
          <p:nvPr/>
        </p:nvSpPr>
        <p:spPr>
          <a:xfrm>
            <a:off x="1704960" y="4897440"/>
            <a:ext cx="1365120" cy="603360"/>
          </a:xfrm>
          <a:custGeom>
            <a:avLst/>
            <a:gdLst>
              <a:gd name="textAreaLeft" fmla="*/ 0 w 1365120"/>
              <a:gd name="textAreaRight" fmla="*/ 1365480 w 136512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Oval 38"/>
          <p:cNvSpPr/>
          <p:nvPr/>
        </p:nvSpPr>
        <p:spPr>
          <a:xfrm>
            <a:off x="4979880" y="4599000"/>
            <a:ext cx="143532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rc 39"/>
          <p:cNvSpPr/>
          <p:nvPr/>
        </p:nvSpPr>
        <p:spPr>
          <a:xfrm>
            <a:off x="5667480" y="4143240"/>
            <a:ext cx="679320" cy="451080"/>
          </a:xfrm>
          <a:custGeom>
            <a:avLst/>
            <a:gdLst>
              <a:gd name="textAreaLeft" fmla="*/ 0 w 679320"/>
              <a:gd name="textAreaRight" fmla="*/ 679680 w 679320"/>
              <a:gd name="textAreaTop" fmla="*/ 0 h 451080"/>
              <a:gd name="textAreaBottom" fmla="*/ 451440 h 45108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Arc 40"/>
          <p:cNvSpPr/>
          <p:nvPr/>
        </p:nvSpPr>
        <p:spPr>
          <a:xfrm>
            <a:off x="3906720" y="5202360"/>
            <a:ext cx="1289160" cy="298440"/>
          </a:xfrm>
          <a:custGeom>
            <a:avLst/>
            <a:gdLst>
              <a:gd name="textAreaLeft" fmla="*/ 0 w 1289160"/>
              <a:gd name="textAreaRight" fmla="*/ 1289520 w 1289160"/>
              <a:gd name="textAreaTop" fmla="*/ 0 h 298440"/>
              <a:gd name="textAreaBottom" fmla="*/ 298800 h 29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1"/>
          <p:cNvSpPr/>
          <p:nvPr/>
        </p:nvSpPr>
        <p:spPr>
          <a:xfrm>
            <a:off x="1072080" y="5303880"/>
            <a:ext cx="76212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OPIC</a:t>
            </a:r>
            <a:endParaRPr b="0" lang="en-US" sz="2000" spc="-1" strike="noStrike">
              <a:solidFill>
                <a:srgbClr val="000000"/>
              </a:solidFill>
              <a:latin typeface="Arial"/>
            </a:endParaRPr>
          </a:p>
        </p:txBody>
      </p:sp>
      <p:sp>
        <p:nvSpPr>
          <p:cNvPr id="160" name="Rectangle 42"/>
          <p:cNvSpPr/>
          <p:nvPr/>
        </p:nvSpPr>
        <p:spPr>
          <a:xfrm>
            <a:off x="4806360" y="5608800"/>
            <a:ext cx="73296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FIC</a:t>
            </a:r>
            <a:endParaRPr b="0" lang="en-US" sz="2000" spc="-1" strike="noStrike">
              <a:solidFill>
                <a:srgbClr val="000000"/>
              </a:solidFill>
              <a:latin typeface="Arial"/>
            </a:endParaRPr>
          </a:p>
        </p:txBody>
      </p:sp>
      <p:sp>
        <p:nvSpPr>
          <p:cNvPr id="161" name="Oval 43"/>
          <p:cNvSpPr/>
          <p:nvPr/>
        </p:nvSpPr>
        <p:spPr>
          <a:xfrm>
            <a:off x="3276720" y="5791320"/>
            <a:ext cx="901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44"/>
          <p:cNvSpPr/>
          <p:nvPr/>
        </p:nvSpPr>
        <p:spPr>
          <a:xfrm>
            <a:off x="3429000" y="5867280"/>
            <a:ext cx="576360" cy="69876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I</a:t>
            </a:r>
            <a:endParaRPr b="0" lang="en-US" sz="2000" spc="-1" strike="noStrike">
              <a:solidFill>
                <a:srgbClr val="000000"/>
              </a:solidFill>
              <a:latin typeface="Arial"/>
            </a:endParaRPr>
          </a:p>
        </p:txBody>
      </p:sp>
      <p:sp>
        <p:nvSpPr>
          <p:cNvPr id="163" name="Line 45"/>
          <p:cNvSpPr/>
          <p:nvPr/>
        </p:nvSpPr>
        <p:spPr>
          <a:xfrm>
            <a:off x="1855800" y="5665680"/>
            <a:ext cx="143496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46"/>
          <p:cNvSpPr/>
          <p:nvPr/>
        </p:nvSpPr>
        <p:spPr>
          <a:xfrm flipH="1">
            <a:off x="4129200" y="5818320"/>
            <a:ext cx="6220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47"/>
          <p:cNvSpPr/>
          <p:nvPr/>
        </p:nvSpPr>
        <p:spPr>
          <a:xfrm flipV="1">
            <a:off x="3525840" y="5500800"/>
            <a:ext cx="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Arc 48"/>
          <p:cNvSpPr/>
          <p:nvPr/>
        </p:nvSpPr>
        <p:spPr>
          <a:xfrm>
            <a:off x="4363920" y="3089160"/>
            <a:ext cx="3486240" cy="590760"/>
          </a:xfrm>
          <a:custGeom>
            <a:avLst/>
            <a:gdLst>
              <a:gd name="textAreaLeft" fmla="*/ 0 w 3486240"/>
              <a:gd name="textAreaRight" fmla="*/ 3486600 w 3486240"/>
              <a:gd name="textAreaTop" fmla="*/ 0 h 590760"/>
              <a:gd name="textAreaBottom" fmla="*/ 590760 h 59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Rectangle 49"/>
          <p:cNvSpPr/>
          <p:nvPr/>
        </p:nvSpPr>
        <p:spPr>
          <a:xfrm>
            <a:off x="7164360" y="3506760"/>
            <a:ext cx="21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xport Pipeline</a:t>
            </a:r>
            <a:endParaRPr b="0" lang="en-US" sz="2000" spc="-1" strike="noStrike">
              <a:solidFill>
                <a:srgbClr val="000000"/>
              </a:solidFill>
              <a:latin typeface="Arial"/>
            </a:endParaRPr>
          </a:p>
        </p:txBody>
      </p:sp>
      <p:sp>
        <p:nvSpPr>
          <p:cNvPr id="168" name="Rectangle 50"/>
          <p:cNvSpPr/>
          <p:nvPr/>
        </p:nvSpPr>
        <p:spPr>
          <a:xfrm>
            <a:off x="7313040" y="3962520"/>
            <a:ext cx="89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Kumul</a:t>
            </a:r>
            <a:endParaRPr b="0" lang="en-US" sz="2000" spc="-1" strike="noStrike">
              <a:solidFill>
                <a:srgbClr val="000000"/>
              </a:solidFill>
              <a:latin typeface="Arial"/>
            </a:endParaRPr>
          </a:p>
        </p:txBody>
      </p:sp>
      <p:sp>
        <p:nvSpPr>
          <p:cNvPr id="169" name="Rectangle 51"/>
          <p:cNvSpPr/>
          <p:nvPr/>
        </p:nvSpPr>
        <p:spPr>
          <a:xfrm>
            <a:off x="6935760" y="5060880"/>
            <a:ext cx="20750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PNG Oil Refinery</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     </a:t>
            </a:r>
            <a:r>
              <a:rPr b="0" lang="en-AU" sz="1800" spc="-1" strike="noStrike">
                <a:solidFill>
                  <a:srgbClr val="000000"/>
                </a:solidFill>
                <a:latin typeface="Times New Roman"/>
              </a:rPr>
              <a:t>Port Moresby</a:t>
            </a:r>
            <a:endParaRPr b="0" lang="en-US" sz="1800" spc="-1" strike="noStrike">
              <a:solidFill>
                <a:srgbClr val="000000"/>
              </a:solidFill>
              <a:latin typeface="Arial"/>
            </a:endParaRPr>
          </a:p>
        </p:txBody>
      </p:sp>
      <p:sp>
        <p:nvSpPr>
          <p:cNvPr id="170" name="Line 52"/>
          <p:cNvSpPr/>
          <p:nvPr/>
        </p:nvSpPr>
        <p:spPr>
          <a:xfrm>
            <a:off x="7848720" y="4343400"/>
            <a:ext cx="0" cy="67320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tubu :</a:t>
            </a:r>
            <a:br>
              <a:rPr sz="2000"/>
            </a:br>
            <a:r>
              <a:rPr b="1" lang="en-US" sz="2000" spc="-1" strike="noStrike">
                <a:solidFill>
                  <a:srgbClr val="000000"/>
                </a:solidFill>
                <a:latin typeface="Arial"/>
              </a:rPr>
              <a:t>Ampolex and Oil Search</a:t>
            </a:r>
            <a:endParaRPr b="1" lang="en-US" sz="2000" spc="-1" strike="noStrike">
              <a:solidFill>
                <a:srgbClr val="000000"/>
              </a:solidFill>
              <a:latin typeface="Arial"/>
            </a:endParaRPr>
          </a:p>
        </p:txBody>
      </p:sp>
      <p:sp>
        <p:nvSpPr>
          <p:cNvPr id="172" name="Rectangle 54"/>
          <p:cNvSpPr/>
          <p:nvPr/>
        </p:nvSpPr>
        <p:spPr>
          <a:xfrm>
            <a:off x="2438280" y="36576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sh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ceeds a/c</a:t>
            </a:r>
            <a:endParaRPr b="0" lang="en-US" sz="1200" spc="-1" strike="noStrike">
              <a:solidFill>
                <a:srgbClr val="000000"/>
              </a:solidFill>
              <a:latin typeface="Arial"/>
            </a:endParaRPr>
          </a:p>
        </p:txBody>
      </p:sp>
      <p:sp>
        <p:nvSpPr>
          <p:cNvPr id="173" name="Rectangle 55"/>
          <p:cNvSpPr/>
          <p:nvPr/>
        </p:nvSpPr>
        <p:spPr>
          <a:xfrm>
            <a:off x="5105520" y="472428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 Top-u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uarantee</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nalysis of Contracts</a:t>
            </a:r>
            <a:endParaRPr b="1"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s in Project Finance</a:t>
            </a:r>
            <a:endParaRPr b="1" lang="en-US" sz="2000" spc="-1" strike="noStrike">
              <a:solidFill>
                <a:srgbClr val="000000"/>
              </a:solidFill>
              <a:latin typeface="Arial"/>
            </a:endParaRPr>
          </a:p>
        </p:txBody>
      </p:sp>
      <p:sp>
        <p:nvSpPr>
          <p:cNvPr id="1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bjective is to determine whether and how contracts protect project cash flows from market and operating conditio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ary objective is to determine whether the obligations created by each contract address the project's operating risk characteristics and mesh correctly with other project contrac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n assessment of whether the project contracts impose conditions on a project that inadvertently create a risk to lenders. For instance, a gas supply agreement for a power plant may create take-or-pay liabilities that are not in any way hedged by the project's power purchase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 that allow certain operating conditions to reduce fixed payments place lenders at risk.   </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Between Contracts </a:t>
            </a:r>
            <a:endParaRPr b="1" lang="en-US" sz="2000" spc="-1" strike="noStrike">
              <a:solidFill>
                <a:srgbClr val="000000"/>
              </a:solidFill>
              <a:latin typeface="Arial"/>
            </a:endParaRPr>
          </a:p>
        </p:txBody>
      </p:sp>
      <p:sp>
        <p:nvSpPr>
          <p:cNvPr id="1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venue contract, then a supply contract is necessary, while if there is no revenue contract, a supply contract may increase risk</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between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harges in the revenue contract should be consistent with the true cost structure of the project.  If the project is using natural gas, the variable charge should move with the price of natural ga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to hedge in futures marke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nd costs can be hedged (interest rates, oil prices, natural gas prices, copper prices etc.)</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flipV="1">
            <a:off x="4572000" y="3962520"/>
            <a:ext cx="0" cy="1218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3"/>
          <p:cNvSpPr/>
          <p:nvPr/>
        </p:nvSpPr>
        <p:spPr>
          <a:xfrm flipV="1">
            <a:off x="1676520" y="3962160"/>
            <a:ext cx="198108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ical Project-Finance Structure</a:t>
            </a:r>
            <a:endParaRPr b="0" lang="en-US" sz="2000" spc="-1" strike="noStrike">
              <a:solidFill>
                <a:srgbClr val="000000"/>
              </a:solidFill>
              <a:latin typeface="Arial"/>
            </a:endParaRPr>
          </a:p>
        </p:txBody>
      </p:sp>
      <p:sp>
        <p:nvSpPr>
          <p:cNvPr id="182" name="Text Box 5"/>
          <p:cNvSpPr/>
          <p:nvPr/>
        </p:nvSpPr>
        <p:spPr>
          <a:xfrm>
            <a:off x="8380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s</a:t>
            </a:r>
            <a:endParaRPr b="0" lang="en-US" sz="2400" spc="-1" strike="noStrike">
              <a:solidFill>
                <a:srgbClr val="000000"/>
              </a:solidFill>
              <a:latin typeface="Arial"/>
            </a:endParaRPr>
          </a:p>
        </p:txBody>
      </p:sp>
      <p:sp>
        <p:nvSpPr>
          <p:cNvPr id="183" name="Text Box 6"/>
          <p:cNvSpPr/>
          <p:nvPr/>
        </p:nvSpPr>
        <p:spPr>
          <a:xfrm>
            <a:off x="685800" y="5181480"/>
            <a:ext cx="220968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ruction Contractor</a:t>
            </a:r>
            <a:endParaRPr b="0" lang="en-US" sz="2400" spc="-1" strike="noStrike">
              <a:solidFill>
                <a:srgbClr val="000000"/>
              </a:solidFill>
              <a:latin typeface="Arial"/>
            </a:endParaRPr>
          </a:p>
        </p:txBody>
      </p:sp>
      <p:sp>
        <p:nvSpPr>
          <p:cNvPr id="184" name="Text Box 7"/>
          <p:cNvSpPr/>
          <p:nvPr/>
        </p:nvSpPr>
        <p:spPr>
          <a:xfrm>
            <a:off x="3733920" y="5181480"/>
            <a:ext cx="167616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d 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actor</a:t>
            </a:r>
            <a:endParaRPr b="0" lang="en-US" sz="2400" spc="-1" strike="noStrike">
              <a:solidFill>
                <a:srgbClr val="000000"/>
              </a:solidFill>
              <a:latin typeface="Arial"/>
            </a:endParaRPr>
          </a:p>
        </p:txBody>
      </p:sp>
      <p:sp>
        <p:nvSpPr>
          <p:cNvPr id="185" name="Text Box 8"/>
          <p:cNvSpPr/>
          <p:nvPr/>
        </p:nvSpPr>
        <p:spPr>
          <a:xfrm>
            <a:off x="8380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86" name="Text Box 9"/>
          <p:cNvSpPr/>
          <p:nvPr/>
        </p:nvSpPr>
        <p:spPr>
          <a:xfrm>
            <a:off x="33526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bt</a:t>
            </a:r>
            <a:endParaRPr b="0" lang="en-US" sz="2000" spc="-1" strike="noStrike">
              <a:solidFill>
                <a:srgbClr val="000000"/>
              </a:solidFill>
              <a:latin typeface="Arial"/>
            </a:endParaRPr>
          </a:p>
        </p:txBody>
      </p:sp>
      <p:sp>
        <p:nvSpPr>
          <p:cNvPr id="187" name="Line 10"/>
          <p:cNvSpPr/>
          <p:nvPr/>
        </p:nvSpPr>
        <p:spPr>
          <a:xfrm>
            <a:off x="1600200" y="1544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ext Box 11"/>
          <p:cNvSpPr/>
          <p:nvPr/>
        </p:nvSpPr>
        <p:spPr>
          <a:xfrm>
            <a:off x="1981080" y="24382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Funding</a:t>
            </a:r>
            <a:endParaRPr b="0" lang="en-US" sz="2000" spc="-1" strike="noStrike">
              <a:solidFill>
                <a:srgbClr val="000000"/>
              </a:solidFill>
              <a:latin typeface="Arial"/>
            </a:endParaRPr>
          </a:p>
        </p:txBody>
      </p:sp>
      <p:sp>
        <p:nvSpPr>
          <p:cNvPr id="189" name="Line 12"/>
          <p:cNvSpPr/>
          <p:nvPr/>
        </p:nvSpPr>
        <p:spPr>
          <a:xfrm>
            <a:off x="4191120" y="1544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3"/>
          <p:cNvSpPr/>
          <p:nvPr/>
        </p:nvSpPr>
        <p:spPr>
          <a:xfrm>
            <a:off x="16002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4"/>
          <p:cNvSpPr/>
          <p:nvPr/>
        </p:nvSpPr>
        <p:spPr>
          <a:xfrm>
            <a:off x="4191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5"/>
          <p:cNvSpPr/>
          <p:nvPr/>
        </p:nvSpPr>
        <p:spPr>
          <a:xfrm>
            <a:off x="160020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37339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ext Box 17"/>
          <p:cNvSpPr/>
          <p:nvPr/>
        </p:nvSpPr>
        <p:spPr>
          <a:xfrm>
            <a:off x="33526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nders</a:t>
            </a:r>
            <a:endParaRPr b="0" lang="en-US" sz="2400" spc="-1" strike="noStrike">
              <a:solidFill>
                <a:srgbClr val="000000"/>
              </a:solidFill>
              <a:latin typeface="Arial"/>
            </a:endParaRPr>
          </a:p>
        </p:txBody>
      </p:sp>
      <p:sp>
        <p:nvSpPr>
          <p:cNvPr id="195" name="Text Box 18"/>
          <p:cNvSpPr/>
          <p:nvPr/>
        </p:nvSpPr>
        <p:spPr>
          <a:xfrm>
            <a:off x="6629400" y="51814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FM Contractor</a:t>
            </a:r>
            <a:endParaRPr b="0" lang="en-US" sz="2400" spc="-1" strike="noStrike">
              <a:solidFill>
                <a:srgbClr val="000000"/>
              </a:solidFill>
              <a:latin typeface="Arial"/>
            </a:endParaRPr>
          </a:p>
        </p:txBody>
      </p:sp>
      <p:sp>
        <p:nvSpPr>
          <p:cNvPr id="196" name="Text Box 19"/>
          <p:cNvSpPr/>
          <p:nvPr/>
        </p:nvSpPr>
        <p:spPr>
          <a:xfrm>
            <a:off x="3733920" y="4267080"/>
            <a:ext cx="167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197" name="Text Box 20"/>
          <p:cNvSpPr/>
          <p:nvPr/>
        </p:nvSpPr>
        <p:spPr>
          <a:xfrm>
            <a:off x="1828800" y="426708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uction Contract</a:t>
            </a:r>
            <a:endParaRPr b="0" lang="en-US" sz="2000" spc="-1" strike="noStrike">
              <a:solidFill>
                <a:srgbClr val="000000"/>
              </a:solidFill>
              <a:latin typeface="Arial"/>
            </a:endParaRPr>
          </a:p>
        </p:txBody>
      </p:sp>
      <p:sp>
        <p:nvSpPr>
          <p:cNvPr id="198" name="Line 21"/>
          <p:cNvSpPr/>
          <p:nvPr/>
        </p:nvSpPr>
        <p:spPr>
          <a:xfrm flipH="1" flipV="1">
            <a:off x="5334120" y="3885840"/>
            <a:ext cx="213336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22"/>
          <p:cNvSpPr/>
          <p:nvPr/>
        </p:nvSpPr>
        <p:spPr>
          <a:xfrm>
            <a:off x="5410080" y="4251240"/>
            <a:ext cx="327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 FM Contract (</a:t>
            </a:r>
            <a:r>
              <a:rPr b="0" i="1" lang="en-GB" sz="2000" spc="-1" strike="noStrike">
                <a:solidFill>
                  <a:srgbClr val="000000"/>
                </a:solidFill>
                <a:latin typeface="Times New Roman"/>
              </a:rPr>
              <a:t>e.g.</a:t>
            </a:r>
            <a:r>
              <a:rPr b="0" lang="en-GB" sz="2000" spc="-1" strike="noStrike">
                <a:solidFill>
                  <a:srgbClr val="000000"/>
                </a:solidFill>
                <a:latin typeface="Times New Roman"/>
              </a:rPr>
              <a:t> cleaning, catering, security)</a:t>
            </a:r>
            <a:endParaRPr b="0" lang="en-US" sz="2000" spc="-1" strike="noStrike">
              <a:solidFill>
                <a:srgbClr val="000000"/>
              </a:solidFill>
              <a:latin typeface="Arial"/>
            </a:endParaRPr>
          </a:p>
        </p:txBody>
      </p:sp>
      <p:sp>
        <p:nvSpPr>
          <p:cNvPr id="200" name="Line 23"/>
          <p:cNvSpPr/>
          <p:nvPr/>
        </p:nvSpPr>
        <p:spPr>
          <a:xfrm flipH="1">
            <a:off x="5410080" y="1523880"/>
            <a:ext cx="1828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24"/>
          <p:cNvSpPr/>
          <p:nvPr/>
        </p:nvSpPr>
        <p:spPr>
          <a:xfrm>
            <a:off x="5410080" y="2133720"/>
            <a:ext cx="197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FI Contract</a:t>
            </a:r>
            <a:endParaRPr b="0" lang="en-US" sz="2000" spc="-1" strike="noStrike">
              <a:solidFill>
                <a:srgbClr val="000000"/>
              </a:solidFill>
              <a:latin typeface="Arial"/>
            </a:endParaRPr>
          </a:p>
        </p:txBody>
      </p:sp>
      <p:sp>
        <p:nvSpPr>
          <p:cNvPr id="202" name="Line 25"/>
          <p:cNvSpPr/>
          <p:nvPr/>
        </p:nvSpPr>
        <p:spPr>
          <a:xfrm>
            <a:off x="2819520" y="2743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26"/>
          <p:cNvSpPr/>
          <p:nvPr/>
        </p:nvSpPr>
        <p:spPr>
          <a:xfrm>
            <a:off x="28195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Text Box 27"/>
          <p:cNvSpPr/>
          <p:nvPr/>
        </p:nvSpPr>
        <p:spPr>
          <a:xfrm>
            <a:off x="6192720" y="1066680"/>
            <a:ext cx="19051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hority</a:t>
            </a:r>
            <a:endParaRPr b="0" lang="en-US" sz="2400" spc="-1" strike="noStrike">
              <a:solidFill>
                <a:srgbClr val="000000"/>
              </a:solidFill>
              <a:latin typeface="Arial"/>
            </a:endParaRPr>
          </a:p>
        </p:txBody>
      </p:sp>
      <p:sp>
        <p:nvSpPr>
          <p:cNvPr id="205" name="Text Box 28"/>
          <p:cNvSpPr/>
          <p:nvPr/>
        </p:nvSpPr>
        <p:spPr>
          <a:xfrm>
            <a:off x="3657600" y="31240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any</a:t>
            </a:r>
            <a:endParaRPr b="0" lang="en-US" sz="2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1</a:t>
            </a:r>
            <a:endParaRPr b="1" lang="en-US" sz="2000" spc="-1" strike="noStrike">
              <a:solidFill>
                <a:srgbClr val="000000"/>
              </a:solidFill>
              <a:latin typeface="Arial"/>
            </a:endParaRPr>
          </a:p>
        </p:txBody>
      </p:sp>
      <p:sp>
        <p:nvSpPr>
          <p:cNvPr id="2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urchase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ing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nd coal supply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sales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G supply and purchas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port landing-fe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uild-own-operate-transfer) contracts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2</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mpletion guarante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facilities or lending agre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ntribution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gage, deed of trust, or similar instrument, which grants lenders a first mortgage lien on real estate and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ory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and intercreditor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support agreements, such as letters of credit, surety bonds and targeted insurance policie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rchitectur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Turnkey construction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completion and systems performance 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versus BO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sales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Management (O&amp;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support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greement and Other Agreement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 under which the purchaser will purchase the production of the contract under a long-term pricing formula.</a:t>
            </a:r>
            <a:r>
              <a:rPr b="0" lang="en-US" sz="1800" spc="-1" strike="noStrike">
                <a:solidFill>
                  <a:srgbClr val="000000"/>
                </a:solidFill>
                <a:latin typeface="Arial"/>
              </a:rPr>
              <a: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or another public authority gives the project company the right to construct the project and earn revenues.</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public sector (e.g. public building)</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general public (e.g. toll road).</a:t>
            </a:r>
            <a:endParaRPr b="0" lang="en-US" sz="16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EPC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contrac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sis of Project Contract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racts are obviously central to project finance transactions.  From a modelling standpoint, issues associated with contracts includ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price levels in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luating residual risk associated with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the credit quality of counter parties – EPC contractors, off-takers, suppliers, O&amp;M contractors, swap counterparti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ring that prices in contracts – EPC contracts, PPA contracts, supply contracts – are economically viabl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two bullet points involve issues in the project finance model – using goal to determine contract price, assessing residual risk with sensitivity, break-even etc.</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cond two bullet points involve analytical models external to the project finance model.</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Contracts</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contracts, the owner is supposed to turn a key to get it started – the contractor is supposed to do everything else.  The contractor or the project sponsor therefore serves as a proxy for technical risk.</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Definition is very importan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ing Licens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ing for Transportation</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Term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Monthly</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n 5-10% as incentiv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on of letters of credit</a:t>
            </a:r>
            <a:endParaRPr b="0" lang="en-US" sz="1400" spc="-1" strike="noStrike">
              <a:solidFill>
                <a:srgbClr val="000000"/>
              </a:solidFill>
              <a:latin typeface="Arial"/>
            </a:endParaRPr>
          </a:p>
        </p:txBody>
      </p:sp>
      <p:sp>
        <p:nvSpPr>
          <p:cNvPr id="2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EPC”) Contract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contracts can enhancement the credit during the construction projects when project finance is not really non-recours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have extensively used turnkey contracts on major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s are a legal vehicle for shifting construction risk away from project owners and us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an shift risk in ways that effectively permit them to be used as credit enhancement sources during construction by ensuring timeliness and adequacy of any damage or penalty payments on which the project may have to rely for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Contracts add 25% to construction cost   </a:t>
            </a:r>
            <a:endParaRPr b="0" lang="en-US" sz="1800" spc="-1" strike="noStrike">
              <a:solidFill>
                <a:srgbClr val="000000"/>
              </a:solidFill>
              <a:latin typeface="Arial"/>
            </a:endParaRPr>
          </a:p>
        </p:txBody>
      </p:sp>
      <p:sp>
        <p:nvSpPr>
          <p:cNvPr id="2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Contract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riteria</a:t>
            </a:r>
            <a:br>
              <a:rPr sz="2000"/>
            </a:b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criteria may specify:</a:t>
            </a:r>
            <a:endParaRPr b="0" lang="en-US" sz="18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 Impac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te Outpu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ost</a:t>
            </a:r>
            <a:endParaRPr b="0" lang="en-US" sz="14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ance of the works is not limited to availability for use or output.  The performance tests can monitor, for example input requirements, heat rate, waste output, climate variations, lighting, accessibility, ventilation, consumption of input, temperature and environmental imp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enders may mandate that any liquidated damages paid by the construction contractor for failure to achieve the performance targets to be used to prepay debt in order  to maintain financial cover ratios.</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EPC Contracts</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date certain EPC contracts are standard in power and infrastructure projects.  Sponsors who want to adopt a different approach have to give lenders completion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projects cannot use EPC contra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 and oil and gas investment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involving gradual investment in a network, such as telecommunications projec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normally 60-75% of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from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roject schedu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condi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ontract specifications</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risks can be allocated to EPC contractors through various mechanisms, and the model should be able to evaluate whether these mechanisms appropriately reduce risk to sponsors and lender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s to reduce risk and should be included in the project finance model includ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rice EPC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delay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plant performance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and Delay Risk</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oadly speaking, a lender expects the loan proceeds to be spent on building a project which is on time, at budget, and is capable of producing sufficient cash flow after completion of construction and commissioning to repay the loan comfortably.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tion risk is usually not taken by financiers in project lending and other financial support is necessary prior to Completio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0" i="1" lang="en-AU" sz="1800" spc="-1" strike="noStrike">
                <a:solidFill>
                  <a:srgbClr val="000000"/>
                </a:solidFill>
                <a:latin typeface="Arial"/>
              </a:rPr>
              <a:t>This Project-Finance Completion Test is usually more extensive than the engineering/construction Completion used by the construction contractor in standard turnkey contrac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in EPC Contracts</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ce in contracts may be misplaced --the possibility of sponsors coming to the aid of a troubled project is elusiv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lenders do not adequately evaluate the risk that contracts cannot be supported when making investment decision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valuation still required.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 </a:t>
            </a:r>
            <a:br>
              <a:rPr sz="2000"/>
            </a:b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oru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spute resolu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chart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dverse-effects matrix</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s and Risk Elimination</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and change-of-law events, since by definition, the vendor and contractor cannot control such ev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these risks through insurance or sovereign guarantees and provisions to renegotiate tariff cost-offsetting provisions of power purchase agreemen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EPC Contracts</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have successfully acted as general contractors for their projects (Calpine).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 scheme can result in a materially lower installed cost, because the project will not have to pay an EPC contractor a premium for taking the fixed-price, date-certain, turnkey ris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only to large, highly rated sponsors who have the balance sheets to fund construction, as well as a large professional staff with extensive experience in managing construction projec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companies are an example of project sponsors who have the financial and technical wherewithal to manage construction activit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ponsors elect to act as general contractors, they will usually need to provide some type of completion guarantee that provides lenders with the same repayment assurance provided by a fixed-price, date-certain contrac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ication of Termination in Contract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s for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mpletion d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perform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meet service requir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at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tanding debt</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rued unpaid interes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ge cos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held in reserve account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 in the market</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ull compensation for the performance of its obligations under the Construction Contract, the Contractor will be entitled to recei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Fixed Construction Pr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r>
              <a:rPr b="0" lang="en-US" sz="1800" spc="-1" strike="noStrike">
                <a:solidFill>
                  <a:srgbClr val="000000"/>
                </a:solidFill>
                <a:latin typeface="Arial"/>
              </a:rPr>
              <a:t>	</a:t>
            </a:r>
            <a:r>
              <a:rPr b="0" lang="en-US" sz="1800" spc="-1" strike="noStrike">
                <a:solidFill>
                  <a:srgbClr val="000000"/>
                </a:solidFill>
                <a:latin typeface="Arial"/>
              </a:rPr>
              <a:t>the Variable Costs,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the Miscellaneous Construction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is an amount equal to $225,519,908 multiplied by an inflation adjustor which is based upon the ENR Index published closest to October 1, 1994, as such price may be further adjusted from time to time pursuant to a Change Ord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will be paid to the Contractor in eleven quarterly installments beginning on the Closing Date.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ntract Exampl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Contract identifies the portions of the Fixed Construction Price to be paid to the Contractor quarterly and the required submissions for each payment. Included in each submission for an installment payment of the Fixed Construction Price will be a certification of the Contractor that the progress of the Contractor's work is substantially in conformance with the construction schedule, or if delayed that the Contractor has in place and is executing a program under which such work is likely to be completed prior to the Scheduled Commercial Operation Dat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riable Costs are the actual costs incurred by the Contractor for subsurface soil remediation, preliminary Facility Site work, certain permit fees, utility interconnection, sales and use taxes, Laydown Site preparations, off-site air monitoring, wetlands mitigation and, if necessary, a remote laydown site (collectively, the "Variable Cost Items"). The estimate for the Variable Costs is $5,707,000 and the Contractor will be paid 90% of such amount on the Closing Date.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scellaneous Construction Costs include certain costs, including costs incurred pursuant to Change Orders, if any, costs of additional insurance requested by the Partnership, deductible amounts under required insurance Miscellaneous Construction Costs will be paid to the Contractor, if they arise, in accordance with requisition procedures set forth in the Construction Contract. Under the requisition procedures set forth in the Construction Contract, all applications for payment are subject to review by the Independent Engineer and must be either approved or objected to in writing by the Independent Engineer within ten days after its receipt of such application. </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truction risk is low</a:t>
            </a:r>
            <a:r>
              <a:rPr b="0" lang="en-US" sz="1600" spc="-1" strike="noStrike">
                <a:solidFill>
                  <a:srgbClr val="000000"/>
                </a:solidFill>
                <a:latin typeface="Arial"/>
              </a:rPr>
              <a:t> for RasGas II and moderate for RasGas 3. RasGas II commenced sales of LNG and condensate from train 3 in February 2004, has started commissioning train 4, and </a:t>
            </a:r>
            <a:r>
              <a:rPr b="1" i="1" lang="en-US" sz="1600" spc="-1" strike="noStrike">
                <a:solidFill>
                  <a:srgbClr val="000000"/>
                </a:solidFill>
                <a:latin typeface="Arial"/>
              </a:rPr>
              <a:t>is more than 50% complete</a:t>
            </a:r>
            <a:r>
              <a:rPr b="0" lang="en-US" sz="1600" spc="-1" strike="noStrike">
                <a:solidFill>
                  <a:srgbClr val="000000"/>
                </a:solidFill>
                <a:latin typeface="Arial"/>
              </a:rPr>
              <a:t> on train 5. RasGas II and RasGas 3 are also building three new storage tanks. The use of experienced contractors with EPC contractual arrangements for RasGas II supports our conclusion that there is low construction risk. J. Ray McDermott is now establishing offshore works for trains 4 and 5. The firm was one of those successfully constructing offshore works for Ras Laffan and the works for RasGas II </a:t>
            </a:r>
            <a:r>
              <a:rPr b="1" i="1" lang="en-US" sz="1600" spc="-1" strike="noStrike">
                <a:solidFill>
                  <a:srgbClr val="000000"/>
                </a:solidFill>
                <a:latin typeface="Arial"/>
              </a:rPr>
              <a:t>are simpler</a:t>
            </a:r>
            <a:r>
              <a:rPr b="0" lang="en-US" sz="1600" spc="-1" strike="noStrike">
                <a:solidFill>
                  <a:srgbClr val="000000"/>
                </a:solidFill>
                <a:latin typeface="Arial"/>
              </a:rPr>
              <a:t>. The natural gas is dried offshore for Ras Laffan but onshore for RasGas II, making the construction works for the latter a simpler proc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vorable contractor performance on Ras Laffan and RasGas II trains 3 and 4 further support the conclusion that construction risk for train 5 is low. The EPC contract is date certain with a contractor payment based on a lump sum plus the cost of reimbursables. </a:t>
            </a:r>
            <a:r>
              <a:rPr b="1" i="1" lang="en-US" sz="1600" spc="-1" strike="noStrike">
                <a:solidFill>
                  <a:srgbClr val="000000"/>
                </a:solidFill>
                <a:latin typeface="Arial"/>
              </a:rPr>
              <a:t>There are large damages payable for delays and performance shortfalls, and contractors provide a bank guarantee equal to 10% of progress payments earned.</a:t>
            </a:r>
            <a:r>
              <a:rPr b="0" lang="en-US" sz="1600" spc="-1" strike="noStrike">
                <a:solidFill>
                  <a:srgbClr val="000000"/>
                </a:solidFill>
                <a:latin typeface="Arial"/>
              </a:rPr>
              <a:t> The consortium provides a two-year warranty, with extensions for work repaired under warranty. In addition to the financial incentives in the EPC contracts, the contractors for RasGas II have a very strong incentive to perform well given the upcoming opportunity to bid for the large train 6 and 7 works. </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2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Some residual level of risk generally remains as force majeure and change-of-law events, since by definition, the vendor and contractor cannot control such even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better projects, especially heavily leveraged, high fixed cost ones, will seek to minimize these risks through insurance or sovereign guarantees and provisions to renegotiate tariff cost-offsetting provisions of power purchase agreemen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ated Damages for Delay and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Liquidated Damage Penalties</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for Delay and Sub-Performanc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C contracts should have damages provisions that result in payments from the contactor to the sponsor to mitigate the risk of delays – e.g. payment of a certain percentage of the contract if a delay of certain months occur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C contract should also specify payments for sub-design performance – for example if the heat rate on an electric plant is not as expected or the throughput of a pipeline is less than expected.</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s on Liquidated Damag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aps on liquidated damages that limit the amount of damages that the contractor must pay.  If damages are exceeded, the sponsor is responsible for the remaining delay or sub-performanc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Cap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Plant – 35-4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eline – 10-15% </a:t>
            </a:r>
            <a:endParaRPr b="0" lang="en-US" sz="12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ual delay damages should be sufficient to cover principal and interest payments for a period of several months, depending on the industry, the location and the technology. </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s of Liquidated Damag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are not intended as penal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egal systems make penalty payment un-enforce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fair compensation for loss suffer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 takes account of the LD penalties when pricing the contract and developing a schedule for construc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works are not completed within the time for completion due to the failure by the construction contractor, liquidated damages, based on a pre-estimate of the damages and losses to be incurred by the project company, will be imposed on the construction contractor.</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ntracts in Project Financing</a:t>
            </a:r>
            <a:endParaRPr b="1" lang="en-US" sz="2000" spc="-1" strike="noStrike">
              <a:solidFill>
                <a:srgbClr val="000000"/>
              </a:solidFill>
              <a:latin typeface="Arial"/>
            </a:endParaRPr>
          </a:p>
        </p:txBody>
      </p:sp>
      <p:sp>
        <p:nvSpPr>
          <p:cNvPr id="1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long-term contracts establish a legal framework for more passive investors and lenders to get involved with the financing of the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revenue stream for a long period (10 to 30 years) becomes the basis for long-term financing, and allows the lenders to provide credit with a reasonable assurance of repay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usually covers the fixed revenue stream.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financing covers the variable revenue stream based on performance of the project, which will either punish the equity investors for non-performance or reward them for exceptional perform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gh rule is that if there is a very well written contract that covers price and volume risks, then the project will have a bond rating one notch below the bond rating of the off-taker.</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 Exercise</a:t>
            </a:r>
            <a:endParaRPr b="1" lang="en-US" sz="2000" spc="-1" strike="noStrike">
              <a:solidFill>
                <a:srgbClr val="000000"/>
              </a:solidFill>
              <a:latin typeface="Arial"/>
            </a:endParaRPr>
          </a:p>
        </p:txBody>
      </p:sp>
      <p:sp>
        <p:nvSpPr>
          <p:cNvPr id="2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of delay</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cos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deferred or los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alties in PPA contrac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to determine liquidated damag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ase cas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case with delay or inadequate perform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reduction in capital expenditures that is necessary to bring back IRR or DSCR to base case level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creating delay case or poor performance cas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liquidated damages using alternative assumptions with respect to delay and plant performance as well as different financial criteria (dscr, cash flow, and IRR)</a:t>
            </a: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for Liquidated Damanges from Delay</a:t>
            </a:r>
            <a:endParaRPr b="1" lang="en-US" sz="2000" spc="-1" strike="noStrike">
              <a:solidFill>
                <a:srgbClr val="000000"/>
              </a:solidFill>
              <a:latin typeface="Arial"/>
            </a:endParaRPr>
          </a:p>
        </p:txBody>
      </p:sp>
      <p:sp>
        <p:nvSpPr>
          <p:cNvPr id="251" name="PlaceHolder 2"/>
          <p:cNvSpPr>
            <a:spLocks noGrp="1"/>
          </p:cNvSpPr>
          <p:nvPr>
            <p:ph/>
          </p:nvPr>
        </p:nvSpPr>
        <p:spPr>
          <a:xfrm>
            <a:off x="1523880" y="1523520"/>
            <a:ext cx="68580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apitalis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nning/standing cos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ermanent(?) loss of revenu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ferral (time value) of dela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artup ‘penal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pply commitment (costs/penal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surable events (not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vere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IE Report</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 report should also discuss if con­tractor delays are subject to penalties and whether the EPC contract contains liability caps that limit a project sponsor's ability to recover contractor-related damages. As men­tioned earlier, the adequacy of delay damages to cover interest during construction and reimburse sponsors (and, indirectly, lenders) for shortfalls in guaranteed operating perfor­mance is an important consideration in Standard &amp; Poor's overall evaluation of con­struction risk. </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3"/>
          <p:cNvGrpSpPr/>
          <p:nvPr/>
        </p:nvGrpSpPr>
        <p:grpSpPr>
          <a:xfrm>
            <a:off x="838080" y="2057400"/>
            <a:ext cx="7924320" cy="2009880"/>
            <a:chOff x="838080" y="2057400"/>
            <a:chExt cx="7924320" cy="2009880"/>
          </a:xfrm>
        </p:grpSpPr>
        <p:sp>
          <p:nvSpPr>
            <p:cNvPr id="255" name="Rectangle 4"/>
            <p:cNvSpPr/>
            <p:nvPr/>
          </p:nvSpPr>
          <p:spPr>
            <a:xfrm>
              <a:off x="838080" y="2057400"/>
              <a:ext cx="2694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Under-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5"/>
            <p:cNvSpPr/>
            <p:nvPr/>
          </p:nvSpPr>
          <p:spPr>
            <a:xfrm>
              <a:off x="3532680" y="2057400"/>
              <a:ext cx="52297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Reduction in revenues long-term</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Penalties’ for lower than contract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6"/>
            <p:cNvSpPr/>
            <p:nvPr/>
          </p:nvSpPr>
          <p:spPr>
            <a:xfrm>
              <a:off x="838080" y="2879640"/>
              <a:ext cx="269460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7"/>
            <p:cNvSpPr/>
            <p:nvPr/>
          </p:nvSpPr>
          <p:spPr>
            <a:xfrm>
              <a:off x="3532680" y="2879640"/>
              <a:ext cx="522972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Estimate actual costs / dam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Sub-limits for key items/ceil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PV/NPV loss (use PF cashflow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Never to ‘make’ mon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tention Bon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5% of Contract Price</a:t>
            </a:r>
            <a:endParaRPr b="0" lang="en-US" sz="18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e of LDs Delay:</a:t>
            </a:r>
            <a:r>
              <a:rPr b="0" lang="en-AU" sz="1800" spc="-1" strike="noStrike">
                <a:solidFill>
                  <a:srgbClr val="000000"/>
                </a:solidFill>
                <a:latin typeface="Arial"/>
              </a:rPr>
              <a:t>	</a:t>
            </a:r>
            <a:r>
              <a:rPr b="0" lang="en-AU" sz="1400" spc="-1" strike="noStrike">
                <a:solidFill>
                  <a:srgbClr val="000000"/>
                </a:solidFill>
                <a:latin typeface="Arial"/>
              </a:rPr>
              <a:t>Weeks 1-4: 0.75% per week of Contract Value</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Weeks5-21 1.00% per week of Contract Valu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all Limit of LDs:</a:t>
            </a:r>
            <a:r>
              <a:rPr b="0" lang="en-AU" sz="1600" spc="-1" strike="noStrike">
                <a:solidFill>
                  <a:srgbClr val="000000"/>
                </a:solidFill>
                <a:latin typeface="Arial"/>
              </a:rPr>
              <a:t>	</a:t>
            </a:r>
            <a:r>
              <a:rPr b="0" lang="en-AU" sz="1600" spc="-1" strike="noStrike">
                <a:solidFill>
                  <a:srgbClr val="000000"/>
                </a:solidFill>
                <a:latin typeface="Arial"/>
              </a:rPr>
              <a:t>20% of Contract Price</a:t>
            </a:r>
            <a:endParaRPr b="0" lang="en-US" sz="16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cluding output and efficiency performance shortfalls)</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longed Delay:</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Maximum 20% of Contract Pric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ge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2438280"/>
            <a:ext cx="7772400" cy="36576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put</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1.5% of Contract Price per 1% Shortfall/Declin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Output</a:t>
            </a:r>
            <a:r>
              <a:rPr b="0" lang="en-AU" sz="1800" spc="-1" strike="noStrike">
                <a:solidFill>
                  <a:srgbClr val="000000"/>
                </a:solidFill>
                <a:latin typeface="Arial"/>
              </a:rPr>
              <a:t>	</a:t>
            </a:r>
            <a:r>
              <a:rPr b="0" lang="en-AU" sz="1600" spc="-1" strike="noStrike">
                <a:solidFill>
                  <a:srgbClr val="000000"/>
                </a:solidFill>
                <a:latin typeface="Arial"/>
              </a:rPr>
              <a:t>4.5% of Contract Pric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t Rate</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2.5% of Contract Price per 1% increase in Heat Rat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Heat Rate</a:t>
            </a:r>
            <a:endParaRPr b="0" lang="en-US" sz="18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5% of Contract Pric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um of 12% LDs for Underperformance</a:t>
            </a:r>
            <a:endParaRPr b="0" lang="en-US" sz="1600" spc="-1" strike="noStrike">
              <a:solidFill>
                <a:srgbClr val="000000"/>
              </a:solidFill>
              <a:latin typeface="Arial"/>
            </a:endParaRPr>
          </a:p>
        </p:txBody>
      </p:sp>
      <p:sp>
        <p:nvSpPr>
          <p:cNvPr id="264"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 Power Project</a:t>
            </a:r>
            <a:br>
              <a:rPr sz="2000"/>
            </a:br>
            <a:endParaRPr b="1" lang="en-US" sz="2000" spc="-1" strike="noStrike">
              <a:solidFill>
                <a:srgbClr val="000000"/>
              </a:solidFill>
              <a:latin typeface="Arial"/>
            </a:endParaRPr>
          </a:p>
        </p:txBody>
      </p:sp>
      <p:sp>
        <p:nvSpPr>
          <p:cNvPr id="266" name="Rectangle 6"/>
          <p:cNvSpPr/>
          <p:nvPr/>
        </p:nvSpPr>
        <p:spPr>
          <a:xfrm>
            <a:off x="1143000" y="1447920"/>
            <a:ext cx="6248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erformance L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mount Payable</a:t>
            </a:r>
            <a:br>
              <a:rPr sz="1200"/>
            </a:b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990720"/>
            <a:ext cx="7543800" cy="7617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Flick Bold Hollow"/>
              </a:rPr>
              <a:t>Level of LDs – - A Crude Tool</a:t>
            </a:r>
            <a:endParaRPr b="1" lang="en-US" sz="2000" spc="-1" strike="noStrike">
              <a:solidFill>
                <a:srgbClr val="000000"/>
              </a:solidFill>
              <a:latin typeface="Arial"/>
            </a:endParaRPr>
          </a:p>
        </p:txBody>
      </p:sp>
      <p:graphicFrame>
        <p:nvGraphicFramePr>
          <p:cNvPr id="268" name="Object 4"/>
          <p:cNvGraphicFramePr/>
          <p:nvPr/>
        </p:nvGraphicFramePr>
        <p:xfrm>
          <a:off x="1143000" y="1981080"/>
          <a:ext cx="7174080" cy="3498840"/>
        </p:xfrm>
        <a:graphic>
          <a:graphicData uri="http://schemas.openxmlformats.org/presentationml/2006/ole">
            <p:oleObj progId="Word.Document.12" r:id="rId1" spid="">
              <p:embed/>
              <p:pic>
                <p:nvPicPr>
                  <p:cNvPr id="269" name="Object 4" descr=""/>
                  <p:cNvPicPr/>
                  <p:nvPr/>
                </p:nvPicPr>
                <p:blipFill>
                  <a:blip r:embed="rId2"/>
                  <a:stretch/>
                </p:blipFill>
                <p:spPr>
                  <a:xfrm>
                    <a:off x="1143000" y="1981080"/>
                    <a:ext cx="7174080" cy="3498840"/>
                  </a:xfrm>
                  <a:prstGeom prst="rect">
                    <a:avLst/>
                  </a:prstGeom>
                  <a:ln w="0">
                    <a:noFill/>
                  </a:ln>
                </p:spPr>
              </p:pic>
            </p:oleObj>
          </a:graphicData>
        </a:graphic>
      </p:graphicFrame>
      <p:sp>
        <p:nvSpPr>
          <p:cNvPr id="270" name="AutoShape 5"/>
          <p:cNvSpPr/>
          <p:nvPr/>
        </p:nvSpPr>
        <p:spPr>
          <a:xfrm>
            <a:off x="558792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6"/>
          <p:cNvSpPr/>
          <p:nvPr/>
        </p:nvSpPr>
        <p:spPr>
          <a:xfrm>
            <a:off x="772164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AutoShape 7"/>
          <p:cNvSpPr/>
          <p:nvPr/>
        </p:nvSpPr>
        <p:spPr>
          <a:xfrm>
            <a:off x="558792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8"/>
          <p:cNvSpPr/>
          <p:nvPr/>
        </p:nvSpPr>
        <p:spPr>
          <a:xfrm>
            <a:off x="772164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Liquidated Damages</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cost of construction delays or poor performance relative to a base cas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delay in financing is funded (debt, equity, reserve fu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DSC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break-even pri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R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tailed aspects of construction draws such as the 10% hold back on expenditure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penditures on a monthly basis in detai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liquidated damages provisions as negative expenditures on a monthly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a:t>
            </a:r>
            <a:r>
              <a:rPr b="1" i="1" lang="en-US" sz="1600" spc="-1" strike="noStrike">
                <a:solidFill>
                  <a:srgbClr val="0000ff"/>
                </a:solidFill>
                <a:latin typeface="Arial"/>
              </a:rPr>
              <a:t>($40,000) per Unit for each full Day</a:t>
            </a:r>
            <a:r>
              <a:rPr b="0" lang="en-US" sz="1600" spc="-1" strike="noStrike">
                <a:solidFill>
                  <a:srgbClr val="000000"/>
                </a:solidFill>
                <a:latin typeface="Arial"/>
              </a:rPr>
              <a:t> or part thereof by which Commercial Operation of such Unit occurs later than the Scheduled Date of Commercial Operation for such Unit </a:t>
            </a:r>
            <a:r>
              <a:rPr b="1" i="1" lang="en-US" sz="1600" spc="-1" strike="noStrike">
                <a:solidFill>
                  <a:srgbClr val="0000ff"/>
                </a:solidFill>
                <a:latin typeface="Arial"/>
              </a:rPr>
              <a:t>up to and including the fourteenth (14th) Day after the Scheduled Date of Commercial Operation</a:t>
            </a:r>
            <a:r>
              <a:rPr b="0" lang="en-US" sz="1600" spc="-1" strike="noStrike">
                <a:solidFill>
                  <a:srgbClr val="000000"/>
                </a:solidFill>
                <a:latin typeface="Arial"/>
              </a:rPr>
              <a:t>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a:t>
            </a:r>
            <a:r>
              <a:rPr b="1" i="1" lang="en-US" sz="1600" spc="-1" strike="noStrike">
                <a:solidFill>
                  <a:srgbClr val="0000ff"/>
                </a:solidFill>
                <a:latin typeface="Arial"/>
              </a:rPr>
              <a:t>up to and including the thirtieth (30th) Day</a:t>
            </a:r>
            <a:r>
              <a:rPr b="0" lang="en-US" sz="1600" spc="-1" strike="noStrike">
                <a:solidFill>
                  <a:srgbClr val="000000"/>
                </a:solidFill>
                <a:latin typeface="Arial"/>
              </a:rPr>
              <a:t> after the Scheduled Date of Commercial Operation for such Unit, Contractor shall be subject to liquidated damages in the amount of SIXTY FIVE THOUSAND DOLLARS </a:t>
            </a:r>
            <a:r>
              <a:rPr b="1" i="1" lang="en-US" sz="1600" spc="-1" strike="noStrike">
                <a:solidFill>
                  <a:srgbClr val="0000ff"/>
                </a:solidFill>
                <a:latin typeface="Arial"/>
              </a:rPr>
              <a:t>($65,000</a:t>
            </a:r>
            <a:r>
              <a:rPr b="0" lang="en-US" sz="1600" spc="-1" strike="noStrike">
                <a:solidFill>
                  <a:srgbClr val="000000"/>
                </a:solidFill>
                <a:latin typeface="Arial"/>
              </a:rPr>
              <a:t>) per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a:t>
            </a:r>
            <a:r>
              <a:rPr b="1" i="1" lang="en-US" sz="1600" spc="-1" strike="noStrike">
                <a:solidFill>
                  <a:srgbClr val="0000ff"/>
                </a:solidFill>
                <a:latin typeface="Arial"/>
              </a:rPr>
              <a:t>($82,000</a:t>
            </a:r>
            <a:r>
              <a:rPr b="0" lang="en-US" sz="1600" spc="-1" strike="noStrike">
                <a:solidFill>
                  <a:srgbClr val="000000"/>
                </a:solidFill>
                <a:latin typeface="Arial"/>
              </a:rPr>
              <a:t>) per Unit.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Delay in Completion Continued</a:t>
            </a:r>
            <a:endParaRPr b="1" lang="en-US" sz="2000" spc="-1" strike="noStrike">
              <a:solidFill>
                <a:srgbClr val="000000"/>
              </a:solidFill>
              <a:latin typeface="Arial"/>
            </a:endParaRPr>
          </a:p>
        </p:txBody>
      </p:sp>
      <p:sp>
        <p:nvSpPr>
          <p:cNvPr id="2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iquidated damages shall continue to accrue until Commercial Operation for such Unit is achieved or the limit is reached, whichever is earlier; provided that, if Contractor has not previously achieved Commercial Operation of a Unit under this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nly if net power output for such Unit is at least 148,590 KW of electricit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of Debt Service in Contracts</a:t>
            </a:r>
            <a:endParaRPr b="1" lang="en-US" sz="2000" spc="-1" strike="noStrike">
              <a:solidFill>
                <a:srgbClr val="000000"/>
              </a:solidFill>
              <a:latin typeface="Arial"/>
            </a:endParaRPr>
          </a:p>
        </p:txBody>
      </p:sp>
      <p:sp>
        <p:nvSpPr>
          <p:cNvPr id="1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structure should protect stakeholders' interests through contracts that encourage the parties to complete project construction satisfactorily and to operate it competentl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s structure should also give stakeholders a right to a portion of the project's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ervice debt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ppropriate circumstances, to release free cash to the equity in the form of dividend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higher rated projects will generally give lenders the assurance that project management will align their interests with lenders' interest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should have limited discretion in changing the project's business or financing activitie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a:t>
            </a:r>
            <a:r>
              <a:rPr b="1" i="1" lang="en-US" sz="1800" spc="-1" strike="noStrike">
                <a:solidFill>
                  <a:srgbClr val="0000ff"/>
                </a:solidFill>
                <a:latin typeface="Arial"/>
              </a:rPr>
              <a:t>shall become due to Owner on the later of the fifth (5th) Business Day after </a:t>
            </a:r>
            <a:endParaRPr b="0" lang="en-US" sz="18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 the conclusion of Performance Testing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and (ii) the date of Commercial Operations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is reached.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a:t>
            </a:r>
            <a:r>
              <a:rPr b="1" i="1" lang="en-US" sz="1600" spc="-1" strike="noStrike">
                <a:solidFill>
                  <a:srgbClr val="0000ff"/>
                </a:solidFill>
                <a:latin typeface="Arial"/>
              </a:rPr>
              <a:t>net power output</a:t>
            </a:r>
            <a:r>
              <a:rPr b="0" lang="en-US" sz="1600" spc="-1" strike="noStrike">
                <a:solidFill>
                  <a:srgbClr val="000000"/>
                </a:solidFill>
                <a:latin typeface="Arial"/>
              </a:rPr>
              <a:t> ("Commercial Operation Output") </a:t>
            </a:r>
            <a:r>
              <a:rPr b="1" i="1" lang="en-US" sz="1600" spc="-1" strike="noStrike">
                <a:solidFill>
                  <a:srgbClr val="0000ff"/>
                </a:solidFill>
                <a:latin typeface="Arial"/>
              </a:rPr>
              <a:t>of at least 938,460 KW of electricity when measured in Performance Tests</a:t>
            </a:r>
            <a:r>
              <a:rPr b="0" lang="en-US" sz="1600" spc="-1" strike="noStrike">
                <a:solidFill>
                  <a:srgbClr val="000000"/>
                </a:solidFill>
                <a:latin typeface="Arial"/>
              </a:rPr>
              <a:t> in accordance with Exhibit 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s shall operate at a net heat rate Ten Thousand Six Hundred Eighty Three (10,683) BTU/KW-HR (HHV) or less per Unit when operated on natural gas and Ten Thousand Eight Hundred Twenty One (10,821) BTU/KW-HR (HHV) or less per Unit when operated on fuel oil when measured in Performance Tes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which shall be applicable for the purpose of determining liquidated damages, Contractor warrants and represents that the net power output of all Units shall be at least 891,540 KW of electricity and the net heat rate for all Units shall be not greater than 11,217 BTU/KW-HR (HHV) per Unit when operated on natural gas and than 11,362 BTU/KW-HR (HHV) per Unit when operated on fuel oil ("Performance Minimu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mercial Operation Output and Commercial Operation Net Heat Rate for all of the Units as determined by the most recent Performance Tests achieve the Performance Minimums, then liquidated damages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D Ca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a:t>
            </a:r>
            <a:r>
              <a:rPr b="1" i="1" lang="en-US" sz="1800" spc="-1" strike="noStrike">
                <a:solidFill>
                  <a:srgbClr val="0000ff"/>
                </a:solidFill>
                <a:latin typeface="Arial"/>
              </a:rPr>
              <a:t>shall not exceed twenty two and one half percent (22 1/2%) of the Guaranteed Lump Sum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a:t>
            </a:r>
            <a:r>
              <a:rPr b="1" i="1" lang="en-US" sz="1800" spc="-1" strike="noStrike">
                <a:solidFill>
                  <a:srgbClr val="0000ff"/>
                </a:solidFill>
                <a:latin typeface="Arial"/>
              </a:rPr>
              <a:t>shall not exceed an amount equal to thirty percent (30%)</a:t>
            </a:r>
            <a:r>
              <a:rPr b="0" lang="en-US" sz="1800" spc="-1" strike="noStrike">
                <a:solidFill>
                  <a:srgbClr val="000000"/>
                </a:solidFill>
                <a:latin typeface="Arial"/>
              </a:rPr>
              <a:t>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Support</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Suppor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ors rely on various measures if their own credit is not stro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of credi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polic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ty bond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se measures, a letter of credit that is unconditional and irrevocable, as well as being drawable on a highly rated bank, tends to provide the most significant support.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 and the like are easier to secure but potentially do not provide the immediate liquidity that an LOC.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surance policy could be slow in providing cash to the project, particularly if the parties to the policy have to litigate the claim.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thholding by the trustee of a portion of each progress payment to the EPC contractor can also provide a reliable source of liquidated damages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has a credit lease, hell-or-high-water contract; even if project is a technological/operational failure, project receives full revenue payments sufficient to cover debt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greement or bond indenture creates a first perfected security interest in all project assets, contracts, permits, and accounts necessary to run the projec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trols on cash flows and distributions with covenants in the loan agre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e (offshore for cross-border debt).   </a:t>
            </a:r>
            <a:endParaRPr b="0" lang="en-US" sz="1800" spc="-1" strike="noStrike">
              <a:solidFill>
                <a:srgbClr val="000000"/>
              </a:solidFill>
              <a:latin typeface="Arial"/>
            </a:endParaRPr>
          </a:p>
        </p:txBody>
      </p:sp>
      <p:sp>
        <p:nvSpPr>
          <p:cNvPr id="1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Strong Contractual Foundation</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EPC Contractor</a:t>
            </a:r>
            <a:endParaRPr b="1" lang="en-US" sz="2000" spc="-1" strike="noStrike">
              <a:solidFill>
                <a:srgbClr val="000000"/>
              </a:solidFill>
              <a:latin typeface="Arial"/>
            </a:endParaRPr>
          </a:p>
        </p:txBody>
      </p:sp>
      <p:sp>
        <p:nvSpPr>
          <p:cNvPr id="3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ing</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re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ch as a bank provides protection to the project should the contractor be exposed to liquidated damages and cost over-ru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mpanies have been more exposed to turnkey contracts (higher leverage means higher L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can be letters of credit, escrow accounts or surety bonds.  Project owner can call without approval from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letter of credit covers entire project cost, does not fully protect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ies and Escrow Accounts</a:t>
            </a:r>
            <a:endParaRPr b="1" lang="en-US" sz="2000" spc="-1" strike="noStrike">
              <a:solidFill>
                <a:srgbClr val="000000"/>
              </a:solidFill>
              <a:latin typeface="Arial"/>
            </a:endParaRPr>
          </a:p>
        </p:txBody>
      </p:sp>
      <p:sp>
        <p:nvSpPr>
          <p:cNvPr id="3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provides warranty on certain components for certain period of tim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ow Accou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rcentage of payments to contractor is withheld.  This amount accumulates in an account that can be used to fund liquidated damag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ion Test</a:t>
            </a:r>
            <a:endParaRPr b="1" lang="en-US" sz="2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 Operation Date in EPC Contracts</a:t>
            </a:r>
            <a:endParaRPr b="1" lang="en-US" sz="1800" spc="-1" strike="noStrike">
              <a:solidFill>
                <a:srgbClr val="000000"/>
              </a:solidFill>
              <a:latin typeface="Arial"/>
            </a:endParaRPr>
          </a:p>
        </p:txBody>
      </p:sp>
      <p:sp>
        <p:nvSpPr>
          <p:cNvPr id="3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n which the project is accepted by Project Company from EPC Contracto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c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ady for start-up and testing</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acceptance</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handed over</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list of items including things that do not prevent the project from operating (such as landscaping).</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Issues</a:t>
            </a:r>
            <a:endParaRPr b="1" lang="en-US" sz="2000" spc="-1" strike="noStrike">
              <a:solidFill>
                <a:srgbClr val="000000"/>
              </a:solidFill>
              <a:latin typeface="Arial"/>
            </a:endParaRPr>
          </a:p>
        </p:txBody>
      </p:sp>
      <p:sp>
        <p:nvSpPr>
          <p:cNvPr id="3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of risk comes from the potential tension betwee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start commercial operations,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ensure that a project has met its long-term reliability tes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independent power organizations a few years ago reported that 50% of the respondents were concerned about performance and testing requirements imposed on their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and Cost Over-Run Risk</a:t>
            </a:r>
            <a:endParaRPr b="1" lang="en-US" sz="2000" spc="-1" strike="noStrike">
              <a:solidFill>
                <a:srgbClr val="000000"/>
              </a:solidFill>
              <a:latin typeface="Arial"/>
            </a:endParaRPr>
          </a:p>
        </p:txBody>
      </p:sp>
      <p:sp>
        <p:nvSpPr>
          <p:cNvPr id="3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ankers expect the loan proceeds to be spent on building a project which is on time, at budget, and is capable of producing sufficient cash flow after Completion of construction and commissioning to repay the loan comfortabl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mpletion Risk is usually not taken by financiers in project lending and other financial support is necessary prior to Completio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1" i="1" lang="en-AU" sz="1600" spc="-1" strike="noStrike">
                <a:solidFill>
                  <a:srgbClr val="6600ff"/>
                </a:solidFill>
                <a:latin typeface="Arial"/>
              </a:rPr>
              <a:t>This Project-Finance in the Loan Agreement Completion Test is usually more extensive than the engineering/construction Completion used by the construction contractor in standard turnkey contrac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implication of a Sponsor accepting the Completion risk is that cost overruns must be met by the Sponsor and, in the case of completion not being attained by a certain date, not achieving a Project Financing at all and the loan remains a corporate credit.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mercial Operation Date</a:t>
            </a:r>
            <a:endParaRPr b="1" lang="en-US" sz="2000" spc="-1" strike="noStrike">
              <a:solidFill>
                <a:srgbClr val="000000"/>
              </a:solidFill>
              <a:latin typeface="Arial"/>
            </a:endParaRPr>
          </a:p>
        </p:txBody>
      </p:sp>
      <p:sp>
        <p:nvSpPr>
          <p:cNvPr id="3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ercial Operation Date is the date which is the Scheduled Commercial Operation Date or the date prior to the Scheduled Commercial Operation Date of a notice by the Contractor to the Partnership and the Independent Engineer certifying that: (i) the Facility is substantially and materially complete and has been substantially and materially designed, constructed and equipped in accordance with the Construction Contract, (ii) all of the Facility's systems have satisfied field tests specified in the start-up plan, (iii) the Facility is available for commercial operation, and (iv) Performance Tests demonstrate that the Facility has met at least the Minimum Performance Standard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tice of the Commercial Operation Date will be effective unless objected to by the Independent Engineer within ten days after receipt of the notice and any dispute related thereto will be resolved in accordance with the dispute resolution procedures set forth in the Construction Contract. The Scheduled Commercial Operation Date is the date which is 33 months after the Closing Date, as such date may be extended due to delays caused by Construction Uncontrollable Circumstances, Changes requested by the Partnership and approved by the Independent Engineer or delays or failure in performance by the Partnership.</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Type of Completion Tests</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an is Due if Construction not Completed by Certai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of Repayment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very Comm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formance completion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p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5% of designed produc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inuous operation for three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st per unit of input achieve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chnical test</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pending on acceptable level of risk:</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erve life greater test – must be greater than 12 yea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sent values of cash flows greater than (150%) of loan outstanding;</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covenants on working capital, debt, equity, net worth, are satisfied; an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nimum system quality/quantity outcomes/efficiencies.</a:t>
            </a:r>
            <a:endParaRPr b="0" lang="en-US" sz="1800" spc="-1" strike="noStrike">
              <a:solidFill>
                <a:srgbClr val="000000"/>
              </a:solidFill>
              <a:latin typeface="Arial"/>
            </a:endParaRPr>
          </a:p>
        </p:txBody>
      </p:sp>
      <p:sp>
        <p:nvSpPr>
          <p:cNvPr id="31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Components of Completion Test</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Weak Contractual Foundation</a:t>
            </a:r>
            <a:endParaRPr b="1" lang="en-US" sz="2000" spc="-1" strike="noStrike">
              <a:solidFill>
                <a:srgbClr val="000000"/>
              </a:solidFill>
              <a:latin typeface="Arial"/>
            </a:endParaRPr>
          </a:p>
        </p:txBody>
      </p:sp>
      <p:sp>
        <p:nvSpPr>
          <p:cNvPr id="1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s support revenue or suppl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ual requirements to keep operating while disputes are being resol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ontain poorly defined provisions and ambiguous require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visions for international arbitra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or no insurance.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 provides virtually no security for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ontrols on cash flow through covenant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ustee.   </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Test</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ercial Completion occurs on the later of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two months after any tanker has loaded 400,000 bbls of  crude o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Lenders (cash flow) Case shows three successive months of positiv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tests are not achieved, the loans do not become non-recourse so that the banks would never take the project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mpletion Test</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inancial Completion follows the usual North Sea practice as follow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 90 consecutive days production (starting no earlier than 90 days of "first oi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of planned production or 82% of peak production ("Target Rate")</a:t>
            </a:r>
            <a:endParaRPr b="0" lang="en-US" sz="16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of which 60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f which 20 consecutive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endable by 30 days if force majeure or regular maintenance shutdown</a:t>
            </a:r>
            <a:endParaRPr b="0" lang="en-US" sz="14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least one tanker loaded at the Target Rate and dispatch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mmercial Completion has occurr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an Life Coverage Ratio is 1.5 for the Lenders Case*</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erve Life Ratio is 1.75*</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sh flow available for debt service at least 2:1 for the next two quarters</a:t>
            </a:r>
            <a:endParaRPr b="0" lang="en-US" sz="1600" spc="-1" strike="noStrike">
              <a:solidFill>
                <a:srgbClr val="000000"/>
              </a:solidFill>
              <a:latin typeface="Arial"/>
            </a:endParaRPr>
          </a:p>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based on recertified reserves by the Independent Engineers from the results of production of at least six month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ssion Contracts</a:t>
            </a:r>
            <a:endParaRPr b="1" lang="en-US" sz="2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 Contract Terms - Concession Agreement</a:t>
            </a:r>
            <a:endParaRPr b="1" lang="en-US" sz="1800" spc="-1" strike="noStrike">
              <a:solidFill>
                <a:srgbClr val="000000"/>
              </a:solidFill>
              <a:latin typeface="Arial"/>
            </a:endParaRPr>
          </a:p>
        </p:txBody>
      </p:sp>
      <p:sp>
        <p:nvSpPr>
          <p:cNvPr id="3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structed to provide service to a public sector bod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T – Build own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earns revenues from the project and constructs the project.  At the end of concession period, transfer back to the public entity</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 – Build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sector party does not own the project; but earns revenues from the project. Often involves lease, for example, toll roads, bridges and tunnel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O – Build transfer,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ector takes over when the project is finished construction</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 – Build own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owns project for entire life such as an electric plant where the project company continues to operate the project.</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Concession Contracts</a:t>
            </a:r>
            <a:endParaRPr b="1" lang="en-US" sz="2000" spc="-1" strike="noStrike">
              <a:solidFill>
                <a:srgbClr val="000000"/>
              </a:solidFill>
              <a:latin typeface="Arial"/>
            </a:endParaRPr>
          </a:p>
        </p:txBody>
      </p:sp>
      <p:sp>
        <p:nvSpPr>
          <p:cNvPr id="3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Leas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and then leases it for use from government entity.  After a specified period, the plant is returne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Own, Operat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owns, operates the plant and returns it after a specified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ransfer, Operat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transfers ownership, and then operates the pla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 where government gives developer the right to construct, operate and develop a particular projec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ower Agreeme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or-Pay Agreement</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a:t>
            </a:r>
            <a:endParaRPr b="1" lang="en-US" sz="2000" spc="-1" strike="noStrike">
              <a:solidFill>
                <a:srgbClr val="000000"/>
              </a:solidFill>
              <a:latin typeface="Arial"/>
            </a:endParaRPr>
          </a:p>
        </p:txBody>
      </p:sp>
      <p:sp>
        <p:nvSpPr>
          <p:cNvPr id="3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ment, municipality or other public body (often known as the Concession Authority) awards the SPV a concession granting it a "license" in which it has exclusive ownership of a specified facility or asset for a fixed number of years and at the end of the concession the asset is handed back to the public sector in a specified condi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sometimes known as the implementation or project agreement) is the primary contract between the government and the SPV and forms the contractual basis from which other contracts are developed.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normally entitles the SPV to build, finance and operate the facility for a fixed period although there are other varian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delays in construction should not threaten a cancellation of the concession. Stronger concessions tend to support the project's commercial success by restricting the development of competing services and to permit lenders to exercise step-in rights quickly, with a reasonable expectation that the project can be rehabilitated.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 Components</a:t>
            </a:r>
            <a:endParaRPr b="1" lang="en-US" sz="2000" spc="-1" strike="noStrike">
              <a:solidFill>
                <a:srgbClr val="000000"/>
              </a:solidFill>
              <a:latin typeface="Arial"/>
            </a:endParaRPr>
          </a:p>
        </p:txBody>
      </p:sp>
      <p:sp>
        <p:nvSpPr>
          <p:cNvPr id="3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the concession should equal the term of the rated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projects will unusually have a "tail" period to offset the risk of rescheduled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ssion's ability to increase its tolls or tariffs without submitting to political or administrative approv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cash flows often increase on the assumption that tolls will increase, but political pressures can often deny this proces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ncession Contracts</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public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shadow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system (railway or metro) where public pays far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and sewage systems with payments from municipalities or end-us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s or airports with payments from airline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ector buildings – schools, hospitals or prisons – where authority makes paymen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obvious temptation for the project company to neglect maintenance during the final years of operation.  A maintenance regime therefore has to be agreed and monitored.</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ontracts in Concession Agreements</a:t>
            </a:r>
            <a:endParaRPr b="1" lang="en-US" sz="18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made for availabil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periods when not availabl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of 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ing Factor</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Syste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Remain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l Contracts in Concession Agreements</a:t>
            </a:r>
            <a:endParaRPr b="1" lang="en-US" sz="1800" spc="-1" strike="noStrike">
              <a:solidFill>
                <a:srgbClr val="000000"/>
              </a:solidFill>
              <a:latin typeface="Arial"/>
            </a:endParaRPr>
          </a:p>
        </p:txBody>
      </p:sp>
      <p:sp>
        <p:nvSpPr>
          <p:cNvPr id="3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company must complete by date certai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granted for a fixed period of ti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oll set with indexing for inf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rvice provisions specifi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are box” guarantee if tolls cannot support the full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 of Contracts</a:t>
            </a: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son Mission Energy Funding</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es demonstrated that debt service obligations can be met under adverse scenarios and that cover ages vary within a narrow range...This is because revenues and expenses are well matched and because, on average, 33% of revenues come from fixed capacity payments.  Debt service coverage would be most affected by a degradation in heat rat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s</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Structures</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Contrac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tion provisions are the chief tool to cover the Cost component of Operating Risk and have many formulations in descending order of suppor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cost pass through (to the price/tariff)</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price plus:</a:t>
            </a:r>
            <a:r>
              <a:rPr b="0" lang="en-US" sz="1600" spc="-1" strike="noStrike">
                <a:solidFill>
                  <a:srgbClr val="000000"/>
                </a:solidFill>
                <a:latin typeface="Arial"/>
              </a:rPr>
              <a:t>	</a:t>
            </a:r>
            <a:r>
              <a:rPr b="0" lang="en-US" sz="1600" spc="-1" strike="noStrike">
                <a:solidFill>
                  <a:srgbClr val="000000"/>
                </a:solidFill>
                <a:latin typeface="Arial"/>
              </a:rPr>
              <a:t> actual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ormula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loor</a:t>
            </a:r>
            <a:r>
              <a:rPr b="0" lang="en-US" sz="1600" spc="-1" strike="noStrike">
                <a:solidFill>
                  <a:srgbClr val="000000"/>
                </a:solidFill>
                <a:latin typeface="Arial"/>
              </a:rPr>
              <a:t> price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with escalation built‑ i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linked to other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apest alternati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d index/pric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a:t>
            </a:r>
            <a:endParaRPr b="1" lang="en-US" sz="2000" spc="-1" strike="noStrike">
              <a:solidFill>
                <a:srgbClr val="000000"/>
              </a:solidFill>
              <a:latin typeface="Arial"/>
            </a:endParaRPr>
          </a:p>
        </p:txBody>
      </p:sp>
      <p:sp>
        <p:nvSpPr>
          <p:cNvPr id="3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and key contract in electric power project financing is the power sales contract (i.e. “PPA”) or the long-term energy services agreement (i.e. “ESA”), which defines the parameters of the power purchased and economics of the projec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generally the contract between the local utility and the power producer.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tract is typically long-term (i.e., PPAs of 15 or more years in length and ESA’s approximately 5-10 year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whether the plant is dispatchable or no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generally has both a capacity and energy component, typically, although capacity payments are usually not extended to intermittent renewable resource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acity payment fixed regardless of use.  It is structured to service the debt associated with the capital costs of the facility while the energy payments cover the variable cost of running the facility (for example, fuel, operations, and maintenance).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Contract –General Terms</a:t>
            </a:r>
            <a:endParaRPr b="1" lang="en-US" sz="2000" spc="-1" strike="noStrike">
              <a:solidFill>
                <a:srgbClr val="000000"/>
              </a:solidFill>
              <a:latin typeface="Arial"/>
            </a:endParaRPr>
          </a:p>
        </p:txBody>
      </p:sp>
      <p:sp>
        <p:nvSpPr>
          <p:cNvPr id="3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begins at commercial operation dat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permi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ation of emission requiremen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s of fuel</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iff</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Oper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cy Convertabil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payments made, FX adjustment mechanis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Maje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when project is excused from performance and still gets pai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of Defa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e periods to protect both par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ute Resolu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alue of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Change in La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 purchas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t to Assignments</a:t>
            </a:r>
            <a:endParaRPr b="0" lang="en-US" sz="1600" spc="-1" strike="noStrike">
              <a:solidFill>
                <a:srgbClr val="000000"/>
              </a:solidFill>
              <a:latin typeface="Arial"/>
            </a:endParaRPr>
          </a:p>
        </p:txBody>
      </p:sp>
      <p:sp>
        <p:nvSpPr>
          <p:cNvPr id="3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s Continued</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paid for the energy produced by a project is made up of there variab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harge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of energy is usually calculated by of the avoided energy cost of the power purchaser. Usually each purchaser has their own formula for calculating this value which is subject to contract negotiation. This value is usually escalated annually based on an agreeable escalator that is liked to the primary fuel for the projec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acity Payment is a levelized payment (based on the capital cost of the project) usually over the term of the PP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eling or banking charges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ssociated with wheeling and banking will be dependent on the grid operator’s payment structure for use of the grid based on a country or region’s regulatory requirements. </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urchased Power Agreement</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PA Contracts</a:t>
            </a:r>
            <a:endParaRPr b="1" lang="en-US" sz="2000" spc="-1" strike="noStrike">
              <a:solidFill>
                <a:srgbClr val="000000"/>
              </a:solidFill>
              <a:latin typeface="Arial"/>
            </a:endParaRPr>
          </a:p>
        </p:txBody>
      </p:sp>
      <p:sp>
        <p:nvSpPr>
          <p:cNvPr id="3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perating Cos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 or actual cost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indexed</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Return</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be indexed</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Purchased Power Contracts</a:t>
            </a:r>
            <a:endParaRPr b="1" lang="en-US" sz="2000" spc="-1" strike="noStrike">
              <a:solidFill>
                <a:srgbClr val="000000"/>
              </a:solidFill>
              <a:latin typeface="Arial"/>
            </a:endParaRPr>
          </a:p>
        </p:txBody>
      </p:sp>
      <p:sp>
        <p:nvSpPr>
          <p:cNvPr id="3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may be paid to the off-taker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comple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vailability</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r/and Pay Contracts</a:t>
            </a:r>
            <a:endParaRPr b="1" lang="en-US" sz="2000" spc="-1" strike="noStrike">
              <a:solidFill>
                <a:srgbClr val="000000"/>
              </a:solidFill>
              <a:latin typeface="Arial"/>
            </a:endParaRPr>
          </a:p>
        </p:txBody>
      </p:sp>
      <p:sp>
        <p:nvSpPr>
          <p:cNvPr id="3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or Pay Contrac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of purchaser (off-taker) to pay is unconditional, even if the product is not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ll or high water” if there is an availability provis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Contracts/PPA Contrac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nd Pa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is only if the product is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used for supply contract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ipeline Contracts</a:t>
            </a:r>
            <a:endParaRPr b="1" lang="en-US" sz="2000" spc="-1" strike="noStrike">
              <a:solidFill>
                <a:srgbClr val="000000"/>
              </a:solidFill>
              <a:latin typeface="Arial"/>
            </a:endParaRPr>
          </a:p>
        </p:txBody>
      </p:sp>
      <p:sp>
        <p:nvSpPr>
          <p:cNvPr id="3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 Agreem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common-user facilities such as pipelin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s put sufficient material through the asset or entity involved to generate sufficient throughput revenue (through tolling charges or handling fees) to retire the debt for the asset/entity.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constraints on impossibility of performance and force majeure ensure that the cash flow eventuates more or less on a “hell-or-high-water” basis. </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Majeure</a:t>
            </a:r>
            <a:endParaRPr b="1" lang="en-US" sz="2000" spc="-1" strike="noStrike">
              <a:solidFill>
                <a:srgbClr val="000000"/>
              </a:solidFill>
              <a:latin typeface="Arial"/>
            </a:endParaRPr>
          </a:p>
        </p:txBody>
      </p:sp>
      <p:sp>
        <p:nvSpPr>
          <p:cNvPr id="1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that affects the ability to make payments under the contract but is not the fault, or could reasonably be anticipated by, the party making payments.  It is nobody’s fault, but somebody has to suffer the consequence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s most but not all of the problem, and a way of allocating any residual force majeure risks between parties, none of whom is at fault, has to be found.</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subject to force majeure should not have to make paymen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yments due from off-taker during force majeure perio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ce majeure makes it impossible to fill the contract, the contract is terminated</a:t>
            </a: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erparty Risk</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Counter-party Risk</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merging markets, off-take counterparty risk, as experience has shown in with the Indonesian independent power projects, will often dominate a project's credit rating.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s with state-owned utility companies and guarantees or support letters from government entities may prove to be worthless during periods of economic distress - the very time when counterparty credit support is most neede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or</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erparty risk</a:t>
            </a:r>
            <a:endParaRPr b="1" lang="en-US" sz="2000" spc="-1" strike="noStrike">
              <a:solidFill>
                <a:srgbClr val="000000"/>
              </a:solidFill>
              <a:latin typeface="Arial"/>
            </a:endParaRPr>
          </a:p>
        </p:txBody>
      </p:sp>
      <p:sp>
        <p:nvSpPr>
          <p:cNvPr id="3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strength of a project financing rests on the project's ability to generate cash much of the project's strength derives from contractual participation of outside parties in the establishment and operation of the project structur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rticipation raises questions about the strength or reliability of such participants. The traditional counterparties to projects have included:</a:t>
            </a:r>
            <a:endParaRPr b="0" lang="en-US" sz="18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w material suppli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ncipal off take purchas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PC contractors. </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Sponsors</a:t>
            </a:r>
            <a:endParaRPr b="0" lang="en-US" sz="19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Models to Assess Counter party Risk</a:t>
            </a:r>
            <a:endParaRPr b="1" lang="en-US" sz="2000" spc="-1" strike="noStrike">
              <a:solidFill>
                <a:srgbClr val="000000"/>
              </a:solidFill>
              <a:latin typeface="Arial"/>
            </a:endParaRPr>
          </a:p>
        </p:txBody>
      </p:sp>
      <p:sp>
        <p:nvSpPr>
          <p:cNvPr id="3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 of Counterparty Ris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Bond Ratings for Long-term Contrac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Analysis of EPC contractor versus Solvency Analysis for Off-take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Model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ricing models of commodity pric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models of long-run marginal cos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ling</a:t>
            </a:r>
            <a:r>
              <a:rPr b="0" lang="en-US" sz="1800" spc="-1" strike="noStrike">
                <a:solidFill>
                  <a:srgbClr val="000000"/>
                </a:solidFill>
                <a:latin typeface="Arial"/>
              </a:rPr>
              <a:t> of Subordinated Supply Contract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of suppliers</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rating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Analysis</a:t>
            </a:r>
            <a:endParaRPr b="1" lang="en-US" sz="2000" spc="-1" strike="noStrike">
              <a:solidFill>
                <a:srgbClr val="000000"/>
              </a:solidFill>
              <a:latin typeface="Arial"/>
            </a:endParaRPr>
          </a:p>
        </p:txBody>
      </p:sp>
      <p:sp>
        <p:nvSpPr>
          <p:cNvPr id="3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 bond rating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EBITDA</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story to gauge downside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odelling using option price concepts (KMV and Merton Model)</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Analysis</a:t>
            </a:r>
            <a:endParaRPr b="1" lang="en-US" sz="2000" spc="-1" strike="noStrike">
              <a:solidFill>
                <a:srgbClr val="000000"/>
              </a:solidFill>
              <a:latin typeface="Arial"/>
            </a:endParaRPr>
          </a:p>
        </p:txBody>
      </p:sp>
      <p:sp>
        <p:nvSpPr>
          <p:cNvPr id="3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s and counter parties with short-term exposure</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bility to pay bill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pay L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contract relative to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bility</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Analysis of Contract Pricing</a:t>
            </a:r>
            <a:endParaRPr b="1" lang="en-US" sz="2000" spc="-1" strike="noStrike">
              <a:solidFill>
                <a:srgbClr val="000000"/>
              </a:solidFill>
              <a:latin typeface="Arial"/>
            </a:endParaRPr>
          </a:p>
        </p:txBody>
      </p:sp>
      <p:sp>
        <p:nvSpPr>
          <p:cNvPr id="3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revers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and supply analysi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argin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pital and operating cost in real terms assuming projects earn their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project finance model to determine carrying charge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ptimal capacity mix</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ute Resolution</a:t>
            </a:r>
            <a:endParaRPr b="1" lang="en-US" sz="2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ourts for Disputes</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re is concern about the possibility of arbitrary behavior by the Host Government or its courts, some protection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ntracts governed by the law of the country other than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 about the contracts to be litigates or arbitrated in a forum outside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Arbitration Tribunal</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cannot easily change the law to affect the projec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ichael Angelo</dc:creator>
  <dc:description/>
  <dc:language>en-US</dc:language>
  <cp:lastModifiedBy>Monica Lewinski</cp:lastModifiedBy>
  <cp:lastPrinted>1999-07-15T13:20:36Z</cp:lastPrinted>
  <dcterms:modified xsi:type="dcterms:W3CDTF">2011-07-09T17:07:51Z</dcterms:modified>
  <cp:revision>169</cp:revision>
  <dc:subject/>
  <dc:title>Contracts in Project Finance</dc:title>
</cp:coreProperties>
</file>